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start.wav" ContentType="audio/x-wav"/>
  <Override PartName="/ppt/media/image7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media/image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FF12-D217-400A-8B14-6DFBF4F301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C098-F8C4-4BCA-8D8F-DB1E95D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37C8B6-7763-4704-AFC5-2B4CDB80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4FFD1C-31E7-47C6-B51C-AAAF401F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D4DA37-2F0E-4C8E-B724-337DC5B9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209777-AED2-4B84-AB70-2779FA8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178A09-6650-482E-B6EC-820E87F1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4AC356-02D3-4B29-8BF7-5DA15ABA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1E11C2-C833-40E5-B43F-A20713E5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FCE10E-5726-4694-B34F-15C0C98B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B380C5-0AF0-4AEC-841C-499D3207D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92A09-29DB-4AC4-B7FF-60EF76A43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FB9F-DE46-413F-A099-3BAAD3F1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734DE-766E-4BD3-A2D7-F622685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E7333-A782-4102-9308-3BCA643A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05A92-E882-44FD-8794-3BF90953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08DF1-03B9-4675-9873-D9EC3994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8CD68-B485-42A7-AEFA-719C5905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F10C1-F489-4B6B-B7B2-1B2E4CD2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215CB-FAE3-4499-A174-BE02C92E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A21D6-CC73-425C-BD61-EF7635BB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583C-815C-4B3B-8DF3-846B31FB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EDD6D-9FFE-4121-84CF-651FB014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23AD-37B6-4327-BACD-33AED0732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4191B-08AA-4B24-BA73-AD0F40588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0DBD0-0870-472C-AD39-11196BD59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8B89A-EB53-4799-A946-4C19B2A3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1B754E-0F26-4A04-AA33-E2357064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FFF398-5818-4418-8EFB-76789792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7FCF2D-9622-4427-8E65-77390784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385005-0553-4480-A602-EEDD73F2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981070-4E92-4BDD-BEC0-CAC16511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E88FA-E520-42CF-B6B3-98CB6083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B295D0-0736-45B3-B0C0-BA162B75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3F17F-A44C-493C-B51D-069D4E2CDA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E09AE6-A726-498E-89BC-36665B4B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4EE3A-D8E3-4050-9042-84F967F6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E16524-C367-4128-9D58-22852827D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3C09C-39BD-497F-9870-3C9272917A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CD5F0-CB70-48B1-9D2F-413C96C5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B135F-5D55-49FB-A59A-F964B13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54B75-F569-42C6-8425-EDD15B32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8B2EF-8356-4319-997D-DF116919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45DFE-1260-4808-BDCD-A6793BB2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C0918-05BD-4F89-8C04-159CF517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99B9E-D78F-4D94-8183-53F49A03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7A3AC-EF65-4B86-8D80-3319552E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13302-7A2B-4295-B951-ED0FCC0A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3B8D0-A3A4-4BD9-8528-80C63F8E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8BDB6-034C-4AEE-BA65-18DBB2D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8464D-9E11-4911-99AD-AC6C916C4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20746-A0FE-4377-B075-E67C6C90FD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61C6A-0A6A-48F6-AB5A-FE9DF245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4C97D-AC2D-466F-BF3D-94462BE9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01F7A-7B8F-4115-8C8B-353E79BA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2FE16-AE4A-4CB4-8A8A-FB760400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0C3B4-29D2-4491-BEE3-F22A8523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5C115-83F2-4D9F-9B63-D67DAD59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37C27-95E6-41E2-8562-E907637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0D419-ABEB-4940-B7E4-DD03DEA7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25CCB-ABD4-47B1-84FB-DA066424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7B938-DD28-4DA6-A207-94FCD824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8E37-75DD-4A94-B814-78DDA89D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C9ED0-CA81-481F-ADDA-F4F0F32F4B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9F25C2-56B4-40F3-84CC-45C2DE3106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5D0883-8609-4CBA-8812-E9D5B0F6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F2F337-98DA-4C23-9212-09DB2B29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FEB94-25C2-49DC-82B5-B761C553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142A97-6C10-4374-9550-59970BED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51B8D4-5629-4399-8267-48DD75C3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FC7500-51AC-4293-BD90-6AFB98E1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EBF501-8764-4E9A-A186-2449779A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4EE43A-68B1-4D9F-AA57-D711D518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5D28BB-647F-4D6D-93E6-E6FB9B2F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D0867F-7417-4AEF-AF41-D9158C04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048CE9-61B1-4C71-9285-48A70336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F0F7A1-EF2C-4B8E-9DB4-3C29DE6C2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C18701-CCC1-4CBF-9D47-EA949A76BD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B345F-192F-4580-8A51-E1242AD8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E21B0D-A11F-4F77-B47C-E667E60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336D94-0CC1-42CE-9F20-0E6228D5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8FE502-825A-4CFF-9A70-69394FA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2F9AE3-CC3E-45BB-BB32-F84846DC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E97549-56FF-44FD-974D-9C7C5116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4EF7F0-E430-4AEB-B19F-170AF15F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C0CACA-FD45-43CB-81E6-8251D2A8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608A5C-9EE8-4C4A-92D9-BC4AADD2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0C2011-537E-4B8E-9982-210AC515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0FF0EE-FA4D-4D52-9F0D-733CE0F0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77BE5-AB46-4B4E-9B4E-CA93BBB0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106BC0-8C99-45DF-9983-72E8E417B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E249D-AF26-4D56-A4F7-E0BCC10E0D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0E38D-E4A5-44D8-9CF5-7EA468FF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A5E8E-581A-409A-9EEE-36D9F590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51B23-25D8-4F37-B9B1-94F26C07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2FF68-EA31-4BDF-8484-E92829FD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5EA20-52EC-439B-B135-B84EDF1F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7590F-F655-4093-B583-CAD55619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B6A1E-69DE-4210-9E76-A335F4A5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5059B-5049-4AC1-9309-774EB6DA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E5E47-2B7B-49EA-8DD3-0370B62B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D7F78-B33D-40B5-B595-2F5DC69E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3F92C-5DB9-458C-9AA5-158FC46A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C97CE-90AA-49C9-81CA-B4CDF855D4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32FFF1-3A4B-4187-958A-DAF3E0906F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F226E1-FE47-41DF-AE8D-C05E85C1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6DDDD3-B2A5-464E-888F-B35AF84D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EEAD6C-205A-4ED1-9E1C-27125924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9884B3-38F0-413F-8DC0-09BBE9D7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2B451A-6CA3-4C25-B0E8-FE96A20D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F60893-989D-4DB6-B9B3-637BC58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4631-BE3B-4DFF-A48A-B81DCB55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C91FA-C089-4E2E-AE0C-7C5889DF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445BA4-931E-471A-B768-A60C610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FC90AC-573C-40C2-BD8F-215DAB09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27B15A-DBFF-4B90-A842-B8670D3F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704472-B345-4643-816C-E79F0A7E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36270D-8713-4064-956B-DFF4F47132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2ACC5A-FF66-478E-B40C-29048783A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757266-3E4B-4165-B764-A8738649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9F7784-3937-459F-AD45-70D3DD6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9E8E72-D5D8-45CF-B3A7-5928D307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86D62D-4F1B-4139-8545-BC093F82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89B41-0CA7-4C83-B39A-BB054E80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981A00-F712-468F-8620-8AB2620E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B4943A-DD57-451A-AF4A-43C9E802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691D45-19B7-4E7E-845F-A8DCC0A5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0DCB57-5A28-4684-B641-7331E1F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A4ECB9-E5AC-4A39-8399-D1F519E2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385E56-AE55-4699-936C-889D3CAF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DCE024-9448-4065-8F91-16C94DE9D0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BBBCF-2AAC-46B5-8C31-AEA43AF3F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2D52A-F91A-421B-9A41-33E93E16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28FA1-159B-43D6-8DBB-47F531B0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3DA7E-ADCC-4D5E-AC31-B8551267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FFEB3-40F0-4645-9E28-F4587453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8A61A-E819-46C0-A733-6504DDC3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AEDE3-8C87-4B42-84B6-C6C6D866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39BB1-8008-4068-9292-292AA15C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1DD6D-0BCA-425C-B238-78D322B3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C1432-3C01-4568-A474-2FBD21F4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D690D-0CF4-4B24-9A62-CC015EEC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44339-2DD6-48DC-B1CB-73C613B0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CBC67-D11C-42F1-BA23-9154F1E6E4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409A01-A6AE-444C-8D10-224F13258B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1170A-92FC-4889-A788-30BB0D81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3D2274-3112-4C6A-97FD-169B3491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A13218-3A6A-4310-99F7-33730921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63AF74-6BF1-411A-969D-3707A076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EE87E5-66A2-434F-AE6D-4C1F9F79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11629E-0983-4C36-BF44-14362CEE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9652B0-F737-4802-96D3-97208D9A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D9262C-5EB4-4AF6-B5C3-0479A785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96F354-9914-46DC-8F35-E44B7D3B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4D45AD-D336-4B90-99B2-6EB4E4E9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9CD849-64F7-4CEA-8A5C-66AF858C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4FD57-C9E3-4C31-B37A-0A2C30D0E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423577-B15A-4645-8CC5-EC8BB0311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49A566-0CE3-4838-AAD1-DDA6D8B4E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42964F-5B11-423B-BBE2-5136E35E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FF2875-EE5E-45A8-B9B1-5EB8E0DD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56061F-B5F1-4B46-8786-8A71E98B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45EAD1-005C-4234-8814-B091F9FE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CFCC919-26AE-4B70-9872-6EA84349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21C2684-4AD0-4802-B55A-5DCA5020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8B6652-C467-41B1-B171-27DA2A03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30B177-B50D-460C-B495-55912A85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81F9C-5C9A-4571-A8FF-96885E06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66BE19-3D44-46BB-AC24-34133DC9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E0B812-890F-4A45-AA8D-48CE31FC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C640CC-7CD9-491E-A204-2CE38CA15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2DEBE-10C1-4E6C-BDE1-B6988FBFAD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74938-3B49-425F-9448-CE39695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DBC2A-3DFC-4F25-AB5D-EDEE8DA0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25459-9832-4475-A437-CF0E326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F57CA-DDBC-42D7-B5C0-B5ADDBDF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3647D-0036-4E12-8545-8938C222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58B1D-975B-4D05-BE34-732F19B8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AF2C2-E41F-455E-9EB7-6657ABD1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FCB71-F367-45C4-B310-B55A877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DAB01-2D26-4475-B9AE-F2044D7C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29BF4-A510-4F9B-A99E-6110FE87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6B2FA-53ED-48A2-9CA6-EDADDE11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741F4-8400-4FB2-AC68-B82216757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C6DAC0-3978-4379-B11E-6E81CFDD59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333F32-4C77-4BCD-9F0D-73A418ED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5D4E0F-1ADC-4675-A884-8E337C72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81DAD0-1F51-4B96-A0A8-54840ADF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6D75A5-8CE1-4565-AEB8-59BF5F01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9CF21-1F14-4C12-B798-A06A252C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B1C4EA-0480-481E-95F1-580F710B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5D1643-8345-466E-913E-70CEB33D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A9C6D5-7BC6-4492-896E-F2AA4024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F1ABDA-963D-454C-B5EF-81C7789A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360A4C-1962-4D50-88D6-BBA3614E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9709D2-80A8-492A-A775-977D3C42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A65EA1-3FD5-44E1-A71B-2AB7F326E0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88D1BB4-3875-45C1-A2B4-2D9C6A8F2A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7786822-AB72-4E3F-AD70-11BF090B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4E0868-8863-411F-B951-191C6E22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F0AD8-CDDF-43B0-97AE-FDA14D08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3DCCDB2-ACE4-4E71-9830-38649291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FCC981-DC4A-4E51-8339-F281C364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5E97F4-D392-4C4A-8562-F402A37E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DA8771-F97F-4E5B-81F2-510EA9AE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9F3B78-B851-4E54-BFA9-2C1C4AB4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62A93B-9B26-402F-974F-B1DC7B03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FF4254-2A3B-45BC-9B11-7DD4D8B2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57BD10-298E-42DE-ADC7-454DBCB9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3D3C8A-DC03-454F-9740-E4C052540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705ED-961C-4926-9352-0351A32A48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4D35C-30BD-4822-9A77-DF16101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299A0-9BC6-4132-B53C-0FCF8A41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62A6D-87A2-43F6-91EB-054341D8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5C7C5F-983C-4793-9261-2195A28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DDA0C-CDD7-43BA-9813-18C2C43D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1698E-F652-4C46-AE01-EC7A0726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8E3E1-283B-4BE6-8277-B7850218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5165C-6843-429E-9CED-BECC5EDB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2BC9A-CA8B-4B22-9F90-646D25E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CB9077-CC41-4F6F-AC2D-0255E4D4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88DC9-3A83-411A-89C5-48D5AD5E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BBCCC-390E-482A-8432-D6FDF818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3ADA2-3BB4-4DB1-B6D6-46D3F134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84E66E-5155-4B70-8A26-3002138C7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DDA23-D5F0-48BE-B5EC-CAD7FECC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4D13F-601C-4F06-A200-A570B093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9016F4-EDC5-4079-B052-4C5F4AAE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A48FB-3245-45C7-80DD-83AF8A1D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30D11-10C9-4CA8-AD21-85A60A89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B31A3-207C-4FE1-BC50-BB7B94BA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16542-76EF-42C1-AAF7-7C82F3BE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61441-3494-40C9-9FDF-6F3F18F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02B96-F13F-4C7D-BF62-D1123BD3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8DFE5-5FD9-46BD-9712-DBE00867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2398E-224B-482B-9C52-28ADBF96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DEED7-C6A8-4BC8-BB0F-938ADF5F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C9ABA-EF41-444B-AEFC-6EFD422B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BBEFB2-73F0-4373-84D7-94815827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A0075-39EE-4276-AE56-31469239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62926-5551-4E1C-908F-8848EAC8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74900-E8EB-4285-AB3C-D897C96E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85045-88FF-4A87-9191-2DC05E3A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35E2DD-CAAB-40D4-A7F1-A7BC0502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59355-5D32-4EC4-8224-984D27C9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06EC2-6806-4FDC-90CD-D5F2D09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1842E8-2883-45E9-A12A-ED06960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3E050-5723-4142-AA75-13EBF18A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9432D4-281F-4EFF-803B-A30D2F4D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8FEF5-B546-4B04-9520-10DC3FA8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6632B-1198-4E60-814C-B9327E6B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9AB8E9-5BC7-49B0-9A46-26CB6F31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906DA-8D05-4F0D-8087-A2918040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C20F7-1E09-499F-BF11-9EA67AAB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60669-522F-4533-A3C4-23228612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ED4765-7D5F-44CA-8317-6677D255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C6339-49F1-4B4D-9CE7-F9AC73E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C95800-12D8-4118-9B69-25FF6B5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AB82CF-B7C1-451A-AEA4-BFBF4AAE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A7C6B-72C3-4DEE-B784-D9C8E82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2E5E3-2C8A-49CA-9A0B-B350DC8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942040-F81F-419B-A955-2A0EEBAA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C6923-21D8-4F57-B520-88899370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6AA1B-82CB-4AAD-9A26-58F3FA40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CEDA10-E14C-4899-BFB7-77A3440E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6ACBAB-D338-45BA-BED7-A8EAE106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FE377B-2EAE-4289-92D3-80F00C16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3AEEC-85A7-45BA-BC4F-57B2B3FC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62D1E-374D-4CAA-B2E0-FFF98144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4CBC3-A08C-4C39-A48E-5445BEB6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7C7E33-765A-47FC-A845-151A8B88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DE40C-2AF2-4398-B391-D54CE944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AF1E4-6E9F-4646-822E-1B899568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4F033-B96D-423E-97B2-85D42271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3EACB-8D1A-4F35-A235-F3F4DE34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A1DDDE-765C-4677-8DBE-4C9AEC88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6BA27-FC5E-4961-AC1E-289C89F1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78D9BD-340C-432A-B9A5-1352B534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92FEEC-C91A-4521-8D3C-9AB3490C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8F4F5-A39C-4C9D-AA36-BD0328AC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8AB9D0-987D-4509-BF79-2FBA9D4A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8DD82D-5C71-47CF-B792-2A2B370D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32EC94-87F4-4637-865A-1A5995ED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BBFB57-B29E-48F7-9C1E-47F501F3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64D36-8C3B-4DA7-B28B-D0384748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B1D8A-28C3-4BC6-B218-61D84ABE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30A54A-2C5D-454E-AE26-5787009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EC852-8971-4EE7-A81E-034DB95B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700956-9026-4D90-AEB2-F2F674E7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1E100-967D-4470-9503-BA95D255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C7A5E-9301-4418-927C-51CEC5AF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08CC8C-B82F-4789-B893-1A463FF6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4F986A-9C9F-40F0-A8F8-2F758B5B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C76F98-D283-460D-A154-C255C6DD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A17C2A-31C7-4CC2-8A13-A27CD9E9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9F2BEC-6AF7-4C18-B419-3FD49F3B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DA1450-6A60-4077-B2E5-5280EC3C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67347E-77EB-4E01-BA1B-03AE9719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D26E36-0F76-479D-9074-1ECD652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870C4-D53B-4407-A0C7-2478BC63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A270-BE45-463F-B615-74AAF5C33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E04BA7-B504-4566-8727-5BE194E1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E294F7-2674-4E63-A6F6-D584F53D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EC6BDB-C89E-40C5-BD5C-0653D5BD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4EC146-CBD8-46DA-8193-857D0DBF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FD99C4-2B72-4AFF-9192-4AD80F72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D8DD63-77A2-4E0E-B8A8-B6AA06A3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69FD27-7001-4D24-AEEC-B20211F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969B71-626B-4DE4-A65C-63820463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D8E187-26A6-436E-8F43-EB672FF1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8502C1-4EFE-43E0-9321-8F6EE5B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C837-F00A-450D-B2B4-B7155B4D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990738-2B30-47A2-9E8F-C1F9C26B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F3F615-8843-40CE-91E3-78FDE68D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22A19E-6055-4CC2-82E5-7B3E5127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3DF31D-A32B-413A-96A8-1228A3C1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4AAE2E-A8F9-40A3-8E3C-4C01E870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3BE1A0-64F2-43C8-A33C-671C1A8B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32B3C7-1664-4E1F-B0F0-8A64B9AD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AAB860-84CF-4484-9488-2C5A7417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AB6E2C-E19A-4469-9E21-DBEF1BAF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B455D9-B75B-4399-BC4E-139BB799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E2A9-2BF8-45E6-AB7D-A627F5E0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64D07F-9AB5-4678-B3FD-54028DCB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64AD4A-B3F4-47BA-B578-D08F7CD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9BEE15-357B-405D-9E26-81CC8BAE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080307-422C-4CA7-BCF8-71943ED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527CCE-79D1-409E-A45D-406601BD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63D762-C1AF-4344-8ACC-D5C76A72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D91CD5-7124-4EB6-A61E-1393F04B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F71DAC-D738-4EF4-B14D-1306F6F0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3E2D1E-122A-47CF-A230-F9671252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EC816D-E9ED-4B34-A11A-B47AD425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CEED-EFAD-4018-920F-BC4B2120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589B-7B76-46E0-9814-94FA5580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0C19BF-EFAF-420D-A7C4-6F6CD79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6B06F9-682D-488C-831B-907CE7FD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66A50C-6092-487B-BF2C-6D70B7C3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B6B850-A7EB-4789-9E32-35C1BE3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BC9E95-4D82-4319-B8CC-CC35E0C8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4B31BA-ED77-4B1F-8F3E-E920B79D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A61702-B210-48BF-A159-F49DAC28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E1D210-9AC1-4F0F-B718-58FAF3F9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5A0E69-F820-4B80-8B6A-672729FB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07E659-7509-44CB-A5B1-C3A09645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79B58-26F1-4160-9882-D44A2F07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93E328-38C5-4CE9-8F5F-1ACCF3CF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8CF17C-42F8-4974-9DC3-5750C1DD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2AC520-5A7C-4E1E-B77C-B396C461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3CC60B-4613-449C-9169-4671D9A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173F97-3FEC-4832-8DEB-DB8073DE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10541C-6E54-4E71-ACD0-5C323E30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81D5FC-E50F-4A91-8BCB-FE2A08B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0115B4-E894-4D60-BD14-90A05287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5E9504-FFCB-4D9D-B05E-CF6B76D7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1F9A9C-A174-4F09-8FFD-52C4494C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D160-DD0E-4417-BB45-27ED697A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93AEB0-7685-4EB6-9479-5DB6D962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B7CBA9-3138-4F53-840D-B604A351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630BDB-8851-4F1B-8B49-10D120BD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964DFE-A9E3-4537-9214-8B40340D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47DB86-3CC8-4B00-BFC3-A39A00F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D9E370-25C5-4D92-99E1-EA661E74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50B34E-D17A-424F-A6C9-A35C22CE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DDD622-F976-4299-B0A8-0B65236F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1561E3-3B1D-4DC6-B3D3-AB61F243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E92A3A-A38F-475C-A0BB-1B50D0E7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8A0B-82FE-4EEF-A0E4-9464D22F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B0563B-637C-4C19-B254-AFCDFA5A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E708CE-21EA-4CD9-B13E-80C82668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7FAD4C-EC40-476D-93BD-EFDC0BC0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2EF1-6608-4215-93DD-D4E1C8C5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5670-BC84-4F19-A291-720BF9BD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5DB1-9141-4BFB-807C-061812C2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FD52-EBCC-418A-9B19-CCA76BEC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7851-466D-447E-98B6-F840C5A70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A5473-842D-4571-9552-0EDDE26D6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CD28-F058-498C-A16E-D2F4DAA9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64BB4-C70B-482E-BC71-AB893288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A7CB1-8BA1-40BF-9FC3-D00599DC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017B0-7CFD-47F4-BA03-6782350D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B442A-026B-4847-B438-39EBA5EA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EC949-3CB1-43A4-8960-7777123C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DD226-335E-4590-8445-188B4FA3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E3E00-0B15-4B4E-98F2-3E5BEA54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F5C7E-0E2E-4153-9563-3C8AC4D2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5E027-CC2C-4D38-B912-71E82AD5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5D214-E74D-4246-8BF9-0CB4AF91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AFEC-1199-4218-A64C-9FEBA095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3ADE3-D0E5-4383-84B3-98A42DD54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475BD-ADF9-47C0-9BD4-6FDDC59CD0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A4EDF0-3C9D-4400-95A4-61C50BBA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9783B-D979-481B-BE7F-66E61C77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42881A-C890-4E4E-B842-9BFFE5F0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6D694E-21DE-4F6B-823F-02B530DC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F395B6-934A-4104-8C55-DDA012F1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2770EE-0F97-43C2-B9B7-CA55D94B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1EE0BE-51F3-4E37-9E86-F3D4FBA8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874E32-4671-4A90-881D-5225551B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3970-889F-406C-BFB3-9DA5A521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2D86B6-7926-42D2-B47E-88A2D6CA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8F7F1-1EEA-4B43-83B0-FACA5E0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BC99AD-A052-43DF-A6AF-5A20DD842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CA9F5-D03D-4489-8916-08CDC31D4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0AF8C-56C2-4848-9054-4A62A2E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B7BE7-7B8A-4836-8609-0E99218F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1926-2B2B-492E-8B5E-C25B0682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E7196-5D11-46FC-83C9-0B7ED39F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7B37D-CBDF-4744-B4F6-7F665DF9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C348-E848-4759-9F56-6DA62B9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A319-27A8-4553-B343-CE26DA0A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9B7A-7554-47EB-8A0C-14865ABD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E1371-3264-4FFB-9891-38FEC47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2A055-D9F9-428F-B087-B6AE22AE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16806-63EA-4BCA-AFD8-2C67305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D3A2-7D7C-4367-8F6A-7C3A494EB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720E4-D56F-47D2-B097-4856AB24A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59E47-DB6B-4BDE-9F77-CEDA0F01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0C3F3-80DE-458A-9515-3EE120E7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60E70-9B9D-4E97-B380-1CDBFC61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CFED4-917B-423B-A9D7-5ACF3458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D0E0-262C-4D46-88A3-C8F5A6E3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D5DA6-371C-470C-A2B7-5635893D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F58686-F480-44D4-97AE-E507E5A6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4779F-6D4E-4790-84AD-C62BAAC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504E4-F277-4F50-AC71-7B49B842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CDB9C-9902-41B4-BB49-25E3F7E4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C1EF5-DB2C-4197-969D-6957CBF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A0554-7A39-44D3-822A-7202EC10DF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9F5551-8ADA-4B27-914A-CC3F8D4B26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C7476D-2F4D-4BB2-944B-7203EBF9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D163AC-AB75-4584-B69B-C82BC63E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3B0-B587-4E21-8981-121E5AC41D7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3324-D27B-4458-8A19-34CE044B18A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796-1A83-4C20-AB99-1AE7AE3F401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7980-CA77-4452-8B8B-6E83DBC76FE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4A15-1EA1-4AA9-8FAB-403882CBCE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60BB-33AB-47C7-9F81-D33E991A576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CCAC-B937-4EF8-9DF8-DE188FC593A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049C-9DFF-4C06-ADF1-D72314CC696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B283-ED6B-4A48-AF21-6C2C9E2F4D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0D4C-2200-41B5-87EB-07E398C2878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F4FA-D087-4769-A507-8E561F657D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95EF-88A7-4353-964B-7BF976792A5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1B80-D09D-4076-BE28-ECDB03BB93D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FAF5-6BFD-435A-B863-D67C01092FF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BC43-3BF8-4374-9047-73D29BBFAE0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A88-9C00-4810-8BAF-AEB38DAF840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BAC4-CF9F-4F94-915C-61BF2F507A3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785A-868D-4B6C-9061-D98E72BD1E0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FCFE-6F8D-40F4-92B5-1C7C04A764F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D228-B49C-4234-86DE-AD46AF6401B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753D-259E-41AB-853A-F01E695735D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95AD-1F86-43D2-81DA-315A2B410D1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4398-80AE-45C4-B65F-9E18ACAA25F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752-3775-4302-8D2B-7B5D2614D6A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7DEF-5E0E-4E4F-B218-1EC45C30BB3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4FAE-6ABA-4039-99B1-F9CF89F8FFF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E768-1D9B-444A-9F61-682B3BAA2A1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E35F-D53F-421B-B9BB-10B669462E4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DC7C-A7A5-4A3B-8B21-937A7C4407E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83E-CF58-4F36-BA38-3B2C571E0F6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8FB7-CEDE-444E-94F5-241CFAE248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A88C-EFAC-47BD-9D61-5BD09ECF885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55FF-7CE9-4A5C-A31C-0492AEEEF1D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478B-1C83-48C6-8EC9-733DDC6C59E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027-694E-427E-855A-0DAA1B86D78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F4FD-2386-4117-8660-9E14192909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867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867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324000" y="1700280"/>
            <a:ext cx="6335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已知比一个数多（少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分之几是多少求这个数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54" name="左大括号 55" descr=""/>
          <p:cNvPicPr/>
          <p:nvPr/>
        </p:nvPicPr>
        <p:blipFill>
          <a:blip r:embed="rId1"/>
          <a:stretch/>
        </p:blipFill>
        <p:spPr>
          <a:xfrm>
            <a:off x="5864400" y="3174840"/>
            <a:ext cx="726840" cy="365400"/>
          </a:xfrm>
          <a:prstGeom prst="rect">
            <a:avLst/>
          </a:prstGeom>
          <a:ln w="0">
            <a:noFill/>
          </a:ln>
        </p:spPr>
      </p:pic>
      <p:sp>
        <p:nvSpPr>
          <p:cNvPr id="1855" name="TextBox 69"/>
          <p:cNvSpPr/>
          <p:nvPr/>
        </p:nvSpPr>
        <p:spPr>
          <a:xfrm>
            <a:off x="4143240" y="3792600"/>
            <a:ext cx="642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6" name="TextBox 51"/>
          <p:cNvSpPr/>
          <p:nvPr/>
        </p:nvSpPr>
        <p:spPr>
          <a:xfrm>
            <a:off x="3857760" y="3000240"/>
            <a:ext cx="107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人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57" name="组合 27653"/>
          <p:cNvGrpSpPr/>
          <p:nvPr/>
        </p:nvGrpSpPr>
        <p:grpSpPr>
          <a:xfrm>
            <a:off x="500040" y="2038320"/>
            <a:ext cx="6357960" cy="1765080"/>
            <a:chOff x="500040" y="2038320"/>
            <a:chExt cx="6357960" cy="1765080"/>
          </a:xfrm>
        </p:grpSpPr>
        <p:pic>
          <p:nvPicPr>
            <p:cNvPr id="1858" name="Object 10" descr=""/>
            <p:cNvPicPr/>
            <p:nvPr/>
          </p:nvPicPr>
          <p:blipFill>
            <a:blip r:embed="rId2"/>
            <a:stretch/>
          </p:blipFill>
          <p:spPr>
            <a:xfrm>
              <a:off x="6259680" y="2827440"/>
              <a:ext cx="177480" cy="45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9" name="组合 87"/>
            <p:cNvGrpSpPr/>
            <p:nvPr/>
          </p:nvGrpSpPr>
          <p:grpSpPr>
            <a:xfrm>
              <a:off x="2286000" y="2643120"/>
              <a:ext cx="3571920" cy="142920"/>
              <a:chOff x="2286000" y="2643120"/>
              <a:chExt cx="3571920" cy="142920"/>
            </a:xfrm>
          </p:grpSpPr>
          <p:sp>
            <p:nvSpPr>
              <p:cNvPr id="1860" name="直接连接符 71"/>
              <p:cNvSpPr/>
              <p:nvPr/>
            </p:nvSpPr>
            <p:spPr>
              <a:xfrm flipV="1">
                <a:off x="2287440" y="2784600"/>
                <a:ext cx="357048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1" name="直接连接符 72"/>
              <p:cNvSpPr/>
              <p:nvPr/>
            </p:nvSpPr>
            <p:spPr>
              <a:xfrm flipH="1">
                <a:off x="228600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2" name="直接连接符 73"/>
              <p:cNvSpPr/>
              <p:nvPr/>
            </p:nvSpPr>
            <p:spPr>
              <a:xfrm flipH="1">
                <a:off x="5142240" y="264312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3" name="直接连接符 74"/>
              <p:cNvSpPr/>
              <p:nvPr/>
            </p:nvSpPr>
            <p:spPr>
              <a:xfrm flipH="1">
                <a:off x="300024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4" name="直接连接符 75"/>
              <p:cNvSpPr/>
              <p:nvPr/>
            </p:nvSpPr>
            <p:spPr>
              <a:xfrm flipH="1">
                <a:off x="371448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5" name="直接连接符 76"/>
              <p:cNvSpPr/>
              <p:nvPr/>
            </p:nvSpPr>
            <p:spPr>
              <a:xfrm flipH="1">
                <a:off x="5856480" y="264312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6" name="直接连接符 77"/>
              <p:cNvSpPr/>
              <p:nvPr/>
            </p:nvSpPr>
            <p:spPr>
              <a:xfrm flipH="1">
                <a:off x="442872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67" name="组合 101"/>
            <p:cNvGrpSpPr/>
            <p:nvPr/>
          </p:nvGrpSpPr>
          <p:grpSpPr>
            <a:xfrm>
              <a:off x="2298600" y="3341520"/>
              <a:ext cx="4300560" cy="160560"/>
              <a:chOff x="2298600" y="3341520"/>
              <a:chExt cx="4300560" cy="160560"/>
            </a:xfrm>
          </p:grpSpPr>
          <p:sp>
            <p:nvSpPr>
              <p:cNvPr id="1868" name="直接连接符 88"/>
              <p:cNvSpPr/>
              <p:nvPr/>
            </p:nvSpPr>
            <p:spPr>
              <a:xfrm>
                <a:off x="2298600" y="3500640"/>
                <a:ext cx="42872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9" name="直接连接符 90"/>
              <p:cNvSpPr/>
              <p:nvPr/>
            </p:nvSpPr>
            <p:spPr>
              <a:xfrm flipH="1">
                <a:off x="4453920" y="334152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0" name="直接连接符 91"/>
              <p:cNvSpPr/>
              <p:nvPr/>
            </p:nvSpPr>
            <p:spPr>
              <a:xfrm flipH="1">
                <a:off x="231120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1" name="直接连接符 92"/>
              <p:cNvSpPr/>
              <p:nvPr/>
            </p:nvSpPr>
            <p:spPr>
              <a:xfrm flipH="1">
                <a:off x="302580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2" name="直接连接符 93"/>
              <p:cNvSpPr/>
              <p:nvPr/>
            </p:nvSpPr>
            <p:spPr>
              <a:xfrm flipH="1">
                <a:off x="5168520" y="334152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3" name="直接连接符 94"/>
              <p:cNvSpPr/>
              <p:nvPr/>
            </p:nvSpPr>
            <p:spPr>
              <a:xfrm flipH="1">
                <a:off x="374040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4" name="直接连接符 95"/>
              <p:cNvSpPr/>
              <p:nvPr/>
            </p:nvSpPr>
            <p:spPr>
              <a:xfrm flipH="1">
                <a:off x="6597720" y="334152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5" name="直接连接符 96"/>
              <p:cNvSpPr/>
              <p:nvPr/>
            </p:nvSpPr>
            <p:spPr>
              <a:xfrm flipH="1">
                <a:off x="588384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76" name="组合 27672"/>
            <p:cNvGrpSpPr/>
            <p:nvPr/>
          </p:nvGrpSpPr>
          <p:grpSpPr>
            <a:xfrm>
              <a:off x="500040" y="2038320"/>
              <a:ext cx="6357960" cy="1765080"/>
              <a:chOff x="500040" y="2038320"/>
              <a:chExt cx="6357960" cy="1765080"/>
            </a:xfrm>
          </p:grpSpPr>
          <p:sp>
            <p:nvSpPr>
              <p:cNvPr id="1877" name="TextBox 66"/>
              <p:cNvSpPr/>
              <p:nvPr/>
            </p:nvSpPr>
            <p:spPr>
              <a:xfrm>
                <a:off x="3643200" y="2038320"/>
                <a:ext cx="100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“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8" name="TextBox 102"/>
              <p:cNvSpPr/>
              <p:nvPr/>
            </p:nvSpPr>
            <p:spPr>
              <a:xfrm>
                <a:off x="500040" y="2450160"/>
                <a:ext cx="19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篮球队人数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9" name="TextBox 103"/>
              <p:cNvSpPr/>
              <p:nvPr/>
            </p:nvSpPr>
            <p:spPr>
              <a:xfrm>
                <a:off x="500040" y="3136680"/>
                <a:ext cx="205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足球队人数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0" name="TextBox 67"/>
              <p:cNvSpPr/>
              <p:nvPr/>
            </p:nvSpPr>
            <p:spPr>
              <a:xfrm>
                <a:off x="5786280" y="2865240"/>
                <a:ext cx="1071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多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1" name="左大括号 63"/>
              <p:cNvSpPr/>
              <p:nvPr/>
            </p:nvSpPr>
            <p:spPr>
              <a:xfrm rot="5400000">
                <a:off x="3966840" y="729000"/>
                <a:ext cx="205920" cy="3571560"/>
              </a:xfrm>
              <a:custGeom>
                <a:avLst/>
                <a:gdLst>
                  <a:gd name="textAreaLeft" fmla="*/ 131760 w 205920"/>
                  <a:gd name="textAreaRight" fmla="*/ 206280 w 205920"/>
                  <a:gd name="textAreaTop" fmla="*/ 22320 h 3571560"/>
                  <a:gd name="textAreaBottom" fmla="*/ 3549240 h 357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219"/>
                      <a:pt x="10800" y="437"/>
                    </a:cubicBezTo>
                    <a:lnTo>
                      <a:pt x="10800" y="10363"/>
                    </a:lnTo>
                    <a:cubicBezTo>
                      <a:pt x="10800" y="10582"/>
                      <a:pt x="5400" y="10800"/>
                      <a:pt x="0" y="10800"/>
                    </a:cubicBezTo>
                    <a:cubicBezTo>
                      <a:pt x="5400" y="10800"/>
                      <a:pt x="10800" y="11019"/>
                      <a:pt x="10800" y="11237"/>
                    </a:cubicBezTo>
                    <a:lnTo>
                      <a:pt x="10800" y="21163"/>
                    </a:lnTo>
                    <a:cubicBezTo>
                      <a:pt x="10800" y="21382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882" name="左大括号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2760" y="3512160"/>
                <a:ext cx="4291200" cy="29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3" name="直接连接符 105"/>
              <p:cNvSpPr/>
              <p:nvPr/>
            </p:nvSpPr>
            <p:spPr>
              <a:xfrm>
                <a:off x="5855400" y="2274840"/>
                <a:ext cx="33480" cy="1443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4" name="左大括号 110"/>
              <p:cNvSpPr/>
              <p:nvPr/>
            </p:nvSpPr>
            <p:spPr>
              <a:xfrm rot="16200000">
                <a:off x="4003560" y="1108080"/>
                <a:ext cx="136800" cy="3571920"/>
              </a:xfrm>
              <a:custGeom>
                <a:avLst/>
                <a:gdLst>
                  <a:gd name="textAreaLeft" fmla="*/ 87480 w 136800"/>
                  <a:gd name="textAreaRight" fmla="*/ 137160 w 136800"/>
                  <a:gd name="textAreaTop" fmla="*/ 14760 h 3571920"/>
                  <a:gd name="textAreaBottom" fmla="*/ 3557160 h 357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45"/>
                      <a:pt x="10800" y="290"/>
                    </a:cubicBezTo>
                    <a:lnTo>
                      <a:pt x="10800" y="10510"/>
                    </a:lnTo>
                    <a:cubicBezTo>
                      <a:pt x="10800" y="10655"/>
                      <a:pt x="5400" y="10800"/>
                      <a:pt x="0" y="10800"/>
                    </a:cubicBezTo>
                    <a:cubicBezTo>
                      <a:pt x="5400" y="10800"/>
                      <a:pt x="10800" y="10945"/>
                      <a:pt x="10800" y="11090"/>
                    </a:cubicBezTo>
                    <a:lnTo>
                      <a:pt x="10800" y="21310"/>
                    </a:lnTo>
                    <a:cubicBezTo>
                      <a:pt x="10800" y="21455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85" name="组合 27681"/>
          <p:cNvGrpSpPr/>
          <p:nvPr/>
        </p:nvGrpSpPr>
        <p:grpSpPr>
          <a:xfrm>
            <a:off x="755640" y="1398600"/>
            <a:ext cx="8572320" cy="815040"/>
            <a:chOff x="755640" y="1398600"/>
            <a:chExt cx="8572320" cy="815040"/>
          </a:xfrm>
        </p:grpSpPr>
        <p:sp>
          <p:nvSpPr>
            <p:cNvPr id="1886" name="TextBox 44"/>
            <p:cNvSpPr/>
            <p:nvPr/>
          </p:nvSpPr>
          <p:spPr>
            <a:xfrm>
              <a:off x="755640" y="1598760"/>
              <a:ext cx="85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学校足球队一共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，比篮球队的人数多      ，篮球队有多少人？      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87" name="组合 27683"/>
            <p:cNvGrpSpPr/>
            <p:nvPr/>
          </p:nvGrpSpPr>
          <p:grpSpPr>
            <a:xfrm>
              <a:off x="6046560" y="1398600"/>
              <a:ext cx="511200" cy="815040"/>
              <a:chOff x="6046560" y="1398600"/>
              <a:chExt cx="511200" cy="815040"/>
            </a:xfrm>
          </p:grpSpPr>
          <p:sp>
            <p:nvSpPr>
              <p:cNvPr id="1888" name="文本框 27684"/>
              <p:cNvSpPr/>
              <p:nvPr/>
            </p:nvSpPr>
            <p:spPr>
              <a:xfrm>
                <a:off x="6053040" y="1753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9" name="文本框 27685"/>
              <p:cNvSpPr/>
              <p:nvPr/>
            </p:nvSpPr>
            <p:spPr>
              <a:xfrm>
                <a:off x="6046560" y="1398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0" name="直接连接符 27686"/>
              <p:cNvSpPr/>
              <p:nvPr/>
            </p:nvSpPr>
            <p:spPr>
              <a:xfrm>
                <a:off x="6062400" y="1817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91" name="组合 27687"/>
          <p:cNvGrpSpPr/>
          <p:nvPr/>
        </p:nvGrpSpPr>
        <p:grpSpPr>
          <a:xfrm>
            <a:off x="500040" y="4087800"/>
            <a:ext cx="3786120" cy="2461320"/>
            <a:chOff x="500040" y="4087800"/>
            <a:chExt cx="3786120" cy="2461320"/>
          </a:xfrm>
        </p:grpSpPr>
        <p:sp>
          <p:nvSpPr>
            <p:cNvPr id="1892" name="TextBox 22"/>
            <p:cNvSpPr/>
            <p:nvPr/>
          </p:nvSpPr>
          <p:spPr>
            <a:xfrm>
              <a:off x="571680" y="4383000"/>
              <a:ext cx="371448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篮球队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人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93" name="TextBox 21"/>
            <p:cNvSpPr/>
            <p:nvPr/>
          </p:nvSpPr>
          <p:spPr>
            <a:xfrm>
              <a:off x="500040" y="40878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94" name="组合 27690"/>
            <p:cNvGrpSpPr/>
            <p:nvPr/>
          </p:nvGrpSpPr>
          <p:grpSpPr>
            <a:xfrm>
              <a:off x="1673280" y="4743360"/>
              <a:ext cx="511200" cy="815040"/>
              <a:chOff x="1673280" y="4743360"/>
              <a:chExt cx="511200" cy="815040"/>
            </a:xfrm>
          </p:grpSpPr>
          <p:sp>
            <p:nvSpPr>
              <p:cNvPr id="1895" name="文本框 27691"/>
              <p:cNvSpPr/>
              <p:nvPr/>
            </p:nvSpPr>
            <p:spPr>
              <a:xfrm>
                <a:off x="1679760" y="5098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6" name="文本框 27692"/>
              <p:cNvSpPr/>
              <p:nvPr/>
            </p:nvSpPr>
            <p:spPr>
              <a:xfrm>
                <a:off x="1673280" y="4743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7" name="直接连接符 27693"/>
              <p:cNvSpPr/>
              <p:nvPr/>
            </p:nvSpPr>
            <p:spPr>
              <a:xfrm>
                <a:off x="1689120" y="5162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98" name="组合 27694"/>
            <p:cNvGrpSpPr/>
            <p:nvPr/>
          </p:nvGrpSpPr>
          <p:grpSpPr>
            <a:xfrm>
              <a:off x="1652760" y="5396040"/>
              <a:ext cx="510480" cy="815040"/>
              <a:chOff x="1652760" y="5396040"/>
              <a:chExt cx="510480" cy="815040"/>
            </a:xfrm>
          </p:grpSpPr>
          <p:sp>
            <p:nvSpPr>
              <p:cNvPr id="1899" name="文本框 27695"/>
              <p:cNvSpPr/>
              <p:nvPr/>
            </p:nvSpPr>
            <p:spPr>
              <a:xfrm>
                <a:off x="1658880" y="5751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0" name="文本框 27696"/>
              <p:cNvSpPr/>
              <p:nvPr/>
            </p:nvSpPr>
            <p:spPr>
              <a:xfrm>
                <a:off x="1652760" y="53960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1" name="直接连接符 27697"/>
              <p:cNvSpPr/>
              <p:nvPr/>
            </p:nvSpPr>
            <p:spPr>
              <a:xfrm>
                <a:off x="1668240" y="5815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902" name="组合 27698"/>
          <p:cNvGrpSpPr/>
          <p:nvPr/>
        </p:nvGrpSpPr>
        <p:grpSpPr>
          <a:xfrm>
            <a:off x="4357800" y="4071960"/>
            <a:ext cx="3714480" cy="2717280"/>
            <a:chOff x="4357800" y="4071960"/>
            <a:chExt cx="3714480" cy="2717280"/>
          </a:xfrm>
        </p:grpSpPr>
        <p:sp>
          <p:nvSpPr>
            <p:cNvPr id="1903" name="TextBox 30"/>
            <p:cNvSpPr/>
            <p:nvPr/>
          </p:nvSpPr>
          <p:spPr>
            <a:xfrm>
              <a:off x="4714920" y="407196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04" name="TextBox 31"/>
            <p:cNvSpPr/>
            <p:nvPr/>
          </p:nvSpPr>
          <p:spPr>
            <a:xfrm>
              <a:off x="4357800" y="4500720"/>
              <a:ext cx="3714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篮球队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人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05" name="组合 27701"/>
            <p:cNvGrpSpPr/>
            <p:nvPr/>
          </p:nvGrpSpPr>
          <p:grpSpPr>
            <a:xfrm>
              <a:off x="5791320" y="4775040"/>
              <a:ext cx="511200" cy="815040"/>
              <a:chOff x="5791320" y="4775040"/>
              <a:chExt cx="511200" cy="815040"/>
            </a:xfrm>
          </p:grpSpPr>
          <p:sp>
            <p:nvSpPr>
              <p:cNvPr id="1906" name="文本框 27702"/>
              <p:cNvSpPr/>
              <p:nvPr/>
            </p:nvSpPr>
            <p:spPr>
              <a:xfrm>
                <a:off x="5797800" y="5130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7" name="文本框 27703"/>
              <p:cNvSpPr/>
              <p:nvPr/>
            </p:nvSpPr>
            <p:spPr>
              <a:xfrm>
                <a:off x="5791320" y="4775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8" name="直接连接符 27704"/>
              <p:cNvSpPr/>
              <p:nvPr/>
            </p:nvSpPr>
            <p:spPr>
              <a:xfrm>
                <a:off x="5807160" y="5194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09" name="组合 27705"/>
            <p:cNvGrpSpPr/>
            <p:nvPr/>
          </p:nvGrpSpPr>
          <p:grpSpPr>
            <a:xfrm>
              <a:off x="5972040" y="5251320"/>
              <a:ext cx="511200" cy="815040"/>
              <a:chOff x="5972040" y="5251320"/>
              <a:chExt cx="511200" cy="815040"/>
            </a:xfrm>
          </p:grpSpPr>
          <p:sp>
            <p:nvSpPr>
              <p:cNvPr id="1910" name="文本框 27706"/>
              <p:cNvSpPr/>
              <p:nvPr/>
            </p:nvSpPr>
            <p:spPr>
              <a:xfrm>
                <a:off x="5978520" y="5606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1" name="文本框 27707"/>
              <p:cNvSpPr/>
              <p:nvPr/>
            </p:nvSpPr>
            <p:spPr>
              <a:xfrm>
                <a:off x="5972040" y="52513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2" name="直接连接符 27708"/>
              <p:cNvSpPr/>
              <p:nvPr/>
            </p:nvSpPr>
            <p:spPr>
              <a:xfrm>
                <a:off x="5987880" y="56703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4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917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918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19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920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921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922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923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1228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复习导入，揭示课题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642960" y="148428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图回答问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50"/>
          <p:cNvSpPr/>
          <p:nvPr/>
        </p:nvSpPr>
        <p:spPr>
          <a:xfrm>
            <a:off x="285840" y="387360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TextBox 51"/>
          <p:cNvSpPr/>
          <p:nvPr/>
        </p:nvSpPr>
        <p:spPr>
          <a:xfrm>
            <a:off x="1071720" y="39067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图中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TextBox 3"/>
          <p:cNvSpPr/>
          <p:nvPr/>
        </p:nvSpPr>
        <p:spPr>
          <a:xfrm>
            <a:off x="1222200" y="23972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女生人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TextBox 4"/>
          <p:cNvSpPr/>
          <p:nvPr/>
        </p:nvSpPr>
        <p:spPr>
          <a:xfrm>
            <a:off x="1204920" y="30448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男生人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0" name="组合 19463"/>
          <p:cNvGrpSpPr/>
          <p:nvPr/>
        </p:nvGrpSpPr>
        <p:grpSpPr>
          <a:xfrm>
            <a:off x="2570040" y="1979640"/>
            <a:ext cx="3606840" cy="1754280"/>
            <a:chOff x="2570040" y="1979640"/>
            <a:chExt cx="3606840" cy="1754280"/>
          </a:xfrm>
        </p:grpSpPr>
        <p:grpSp>
          <p:nvGrpSpPr>
            <p:cNvPr id="1491" name="组合 19464"/>
            <p:cNvGrpSpPr/>
            <p:nvPr/>
          </p:nvGrpSpPr>
          <p:grpSpPr>
            <a:xfrm>
              <a:off x="2585880" y="2374920"/>
              <a:ext cx="3591000" cy="1009800"/>
              <a:chOff x="2585880" y="2374920"/>
              <a:chExt cx="3591000" cy="1009800"/>
            </a:xfrm>
          </p:grpSpPr>
          <p:grpSp>
            <p:nvGrpSpPr>
              <p:cNvPr id="1492" name="组合 19465"/>
              <p:cNvGrpSpPr/>
              <p:nvPr/>
            </p:nvGrpSpPr>
            <p:grpSpPr>
              <a:xfrm>
                <a:off x="2585880" y="3313440"/>
                <a:ext cx="3582720" cy="71280"/>
                <a:chOff x="2585880" y="3313440"/>
                <a:chExt cx="3582720" cy="71280"/>
              </a:xfrm>
            </p:grpSpPr>
            <p:grpSp>
              <p:nvGrpSpPr>
                <p:cNvPr id="1493" name="组合 19466"/>
                <p:cNvGrpSpPr/>
                <p:nvPr/>
              </p:nvGrpSpPr>
              <p:grpSpPr>
                <a:xfrm>
                  <a:off x="2585880" y="3313440"/>
                  <a:ext cx="718920" cy="71280"/>
                  <a:chOff x="2585880" y="3313440"/>
                  <a:chExt cx="718920" cy="71280"/>
                </a:xfrm>
              </p:grpSpPr>
              <p:sp>
                <p:nvSpPr>
                  <p:cNvPr id="1494" name="直接连接符 19467"/>
                  <p:cNvSpPr/>
                  <p:nvPr/>
                </p:nvSpPr>
                <p:spPr>
                  <a:xfrm>
                    <a:off x="258588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495" name="直接连接符 19468"/>
                  <p:cNvSpPr/>
                  <p:nvPr/>
                </p:nvSpPr>
                <p:spPr>
                  <a:xfrm>
                    <a:off x="258588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496" name="组合 19469"/>
                <p:cNvGrpSpPr/>
                <p:nvPr/>
              </p:nvGrpSpPr>
              <p:grpSpPr>
                <a:xfrm>
                  <a:off x="3300120" y="3313440"/>
                  <a:ext cx="718920" cy="71280"/>
                  <a:chOff x="3300120" y="3313440"/>
                  <a:chExt cx="718920" cy="71280"/>
                </a:xfrm>
              </p:grpSpPr>
              <p:sp>
                <p:nvSpPr>
                  <p:cNvPr id="1497" name="直接连接符 19470"/>
                  <p:cNvSpPr/>
                  <p:nvPr/>
                </p:nvSpPr>
                <p:spPr>
                  <a:xfrm>
                    <a:off x="330012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498" name="直接连接符 19471"/>
                  <p:cNvSpPr/>
                  <p:nvPr/>
                </p:nvSpPr>
                <p:spPr>
                  <a:xfrm>
                    <a:off x="330012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499" name="组合 19472"/>
                <p:cNvGrpSpPr/>
                <p:nvPr/>
              </p:nvGrpSpPr>
              <p:grpSpPr>
                <a:xfrm>
                  <a:off x="4014720" y="3313440"/>
                  <a:ext cx="718920" cy="71280"/>
                  <a:chOff x="4014720" y="3313440"/>
                  <a:chExt cx="718920" cy="71280"/>
                </a:xfrm>
              </p:grpSpPr>
              <p:sp>
                <p:nvSpPr>
                  <p:cNvPr id="1500" name="直接连接符 19473"/>
                  <p:cNvSpPr/>
                  <p:nvPr/>
                </p:nvSpPr>
                <p:spPr>
                  <a:xfrm>
                    <a:off x="401472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1" name="直接连接符 19474"/>
                  <p:cNvSpPr/>
                  <p:nvPr/>
                </p:nvSpPr>
                <p:spPr>
                  <a:xfrm>
                    <a:off x="401472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02" name="组合 19475"/>
                <p:cNvGrpSpPr/>
                <p:nvPr/>
              </p:nvGrpSpPr>
              <p:grpSpPr>
                <a:xfrm>
                  <a:off x="4733640" y="3313440"/>
                  <a:ext cx="718920" cy="71280"/>
                  <a:chOff x="4733640" y="3313440"/>
                  <a:chExt cx="718920" cy="71280"/>
                </a:xfrm>
              </p:grpSpPr>
              <p:sp>
                <p:nvSpPr>
                  <p:cNvPr id="1503" name="直接连接符 19476"/>
                  <p:cNvSpPr/>
                  <p:nvPr/>
                </p:nvSpPr>
                <p:spPr>
                  <a:xfrm>
                    <a:off x="473364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4" name="直接连接符 19477"/>
                  <p:cNvSpPr/>
                  <p:nvPr/>
                </p:nvSpPr>
                <p:spPr>
                  <a:xfrm>
                    <a:off x="473364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05" name="组合 19478"/>
                <p:cNvGrpSpPr/>
                <p:nvPr/>
              </p:nvGrpSpPr>
              <p:grpSpPr>
                <a:xfrm>
                  <a:off x="5449680" y="3313440"/>
                  <a:ext cx="718920" cy="71280"/>
                  <a:chOff x="5449680" y="3313440"/>
                  <a:chExt cx="718920" cy="71280"/>
                </a:xfrm>
              </p:grpSpPr>
              <p:sp>
                <p:nvSpPr>
                  <p:cNvPr id="1506" name="直接连接符 19479"/>
                  <p:cNvSpPr/>
                  <p:nvPr/>
                </p:nvSpPr>
                <p:spPr>
                  <a:xfrm>
                    <a:off x="544968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7" name="直接连接符 19480"/>
                  <p:cNvSpPr/>
                  <p:nvPr/>
                </p:nvSpPr>
                <p:spPr>
                  <a:xfrm>
                    <a:off x="544968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08" name="直接连接符 19481"/>
                <p:cNvSpPr/>
                <p:nvPr/>
              </p:nvSpPr>
              <p:spPr>
                <a:xfrm>
                  <a:off x="6163920" y="331344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09" name="左大括号 19482"/>
              <p:cNvSpPr/>
              <p:nvPr/>
            </p:nvSpPr>
            <p:spPr>
              <a:xfrm flipV="1" rot="5400000">
                <a:off x="5734080" y="2823480"/>
                <a:ext cx="144360" cy="71892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8720 h 718920"/>
                  <a:gd name="textAreaBottom" fmla="*/ 70020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10" name="组合 19483"/>
              <p:cNvGrpSpPr/>
              <p:nvPr/>
            </p:nvGrpSpPr>
            <p:grpSpPr>
              <a:xfrm>
                <a:off x="5329080" y="2374920"/>
                <a:ext cx="847800" cy="815040"/>
                <a:chOff x="5329080" y="2374920"/>
                <a:chExt cx="847800" cy="815040"/>
              </a:xfrm>
            </p:grpSpPr>
            <p:grpSp>
              <p:nvGrpSpPr>
                <p:cNvPr id="1511" name="组合 19484"/>
                <p:cNvGrpSpPr/>
                <p:nvPr/>
              </p:nvGrpSpPr>
              <p:grpSpPr>
                <a:xfrm>
                  <a:off x="5665680" y="2374920"/>
                  <a:ext cx="511200" cy="815040"/>
                  <a:chOff x="5665680" y="2374920"/>
                  <a:chExt cx="511200" cy="815040"/>
                </a:xfrm>
              </p:grpSpPr>
              <p:sp>
                <p:nvSpPr>
                  <p:cNvPr id="1512" name="文本框 19485"/>
                  <p:cNvSpPr/>
                  <p:nvPr/>
                </p:nvSpPr>
                <p:spPr>
                  <a:xfrm>
                    <a:off x="5672160" y="27302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3" name="文本框 19486"/>
                  <p:cNvSpPr/>
                  <p:nvPr/>
                </p:nvSpPr>
                <p:spPr>
                  <a:xfrm>
                    <a:off x="5665680" y="23749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4" name="直接连接符 19487"/>
                  <p:cNvSpPr/>
                  <p:nvPr/>
                </p:nvSpPr>
                <p:spPr>
                  <a:xfrm>
                    <a:off x="5681520" y="279396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15" name="文本框 19488"/>
                <p:cNvSpPr/>
                <p:nvPr/>
              </p:nvSpPr>
              <p:spPr>
                <a:xfrm>
                  <a:off x="5329080" y="252900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516" name="组合 19489"/>
            <p:cNvGrpSpPr/>
            <p:nvPr/>
          </p:nvGrpSpPr>
          <p:grpSpPr>
            <a:xfrm>
              <a:off x="2570040" y="1979640"/>
              <a:ext cx="2871360" cy="779040"/>
              <a:chOff x="2570040" y="1979640"/>
              <a:chExt cx="2871360" cy="779040"/>
            </a:xfrm>
          </p:grpSpPr>
          <p:grpSp>
            <p:nvGrpSpPr>
              <p:cNvPr id="1517" name="组合 19490"/>
              <p:cNvGrpSpPr/>
              <p:nvPr/>
            </p:nvGrpSpPr>
            <p:grpSpPr>
              <a:xfrm>
                <a:off x="2570040" y="2407680"/>
                <a:ext cx="2871360" cy="351000"/>
                <a:chOff x="2570040" y="2407680"/>
                <a:chExt cx="2871360" cy="351000"/>
              </a:xfrm>
            </p:grpSpPr>
            <p:grpSp>
              <p:nvGrpSpPr>
                <p:cNvPr id="1518" name="组合 19491"/>
                <p:cNvGrpSpPr/>
                <p:nvPr/>
              </p:nvGrpSpPr>
              <p:grpSpPr>
                <a:xfrm>
                  <a:off x="2571120" y="2678400"/>
                  <a:ext cx="2870280" cy="80280"/>
                  <a:chOff x="2571120" y="2678400"/>
                  <a:chExt cx="2870280" cy="80280"/>
                </a:xfrm>
              </p:grpSpPr>
              <p:grpSp>
                <p:nvGrpSpPr>
                  <p:cNvPr id="1519" name="组合 19492"/>
                  <p:cNvGrpSpPr/>
                  <p:nvPr/>
                </p:nvGrpSpPr>
                <p:grpSpPr>
                  <a:xfrm>
                    <a:off x="2571120" y="2678400"/>
                    <a:ext cx="718560" cy="70920"/>
                    <a:chOff x="2571120" y="2678400"/>
                    <a:chExt cx="718560" cy="70920"/>
                  </a:xfrm>
                </p:grpSpPr>
                <p:sp>
                  <p:nvSpPr>
                    <p:cNvPr id="1520" name="直接连接符 19493"/>
                    <p:cNvSpPr/>
                    <p:nvPr/>
                  </p:nvSpPr>
                  <p:spPr>
                    <a:xfrm>
                      <a:off x="2571120" y="2749320"/>
                      <a:ext cx="7185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21" name="直接连接符 19494"/>
                    <p:cNvSpPr/>
                    <p:nvPr/>
                  </p:nvSpPr>
                  <p:spPr>
                    <a:xfrm>
                      <a:off x="2571120" y="267840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2" name="组合 19495"/>
                  <p:cNvGrpSpPr/>
                  <p:nvPr/>
                </p:nvGrpSpPr>
                <p:grpSpPr>
                  <a:xfrm>
                    <a:off x="3285360" y="2678400"/>
                    <a:ext cx="718200" cy="70920"/>
                    <a:chOff x="3285360" y="2678400"/>
                    <a:chExt cx="718200" cy="70920"/>
                  </a:xfrm>
                </p:grpSpPr>
                <p:sp>
                  <p:nvSpPr>
                    <p:cNvPr id="1523" name="直接连接符 19496"/>
                    <p:cNvSpPr/>
                    <p:nvPr/>
                  </p:nvSpPr>
                  <p:spPr>
                    <a:xfrm>
                      <a:off x="3285360" y="2749320"/>
                      <a:ext cx="718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24" name="直接连接符 19497"/>
                    <p:cNvSpPr/>
                    <p:nvPr/>
                  </p:nvSpPr>
                  <p:spPr>
                    <a:xfrm>
                      <a:off x="3285360" y="267840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5" name="组合 19498"/>
                  <p:cNvGrpSpPr/>
                  <p:nvPr/>
                </p:nvGrpSpPr>
                <p:grpSpPr>
                  <a:xfrm>
                    <a:off x="3999240" y="2678400"/>
                    <a:ext cx="718560" cy="70920"/>
                    <a:chOff x="3999240" y="2678400"/>
                    <a:chExt cx="718560" cy="70920"/>
                  </a:xfrm>
                </p:grpSpPr>
                <p:sp>
                  <p:nvSpPr>
                    <p:cNvPr id="1526" name="直接连接符 19499"/>
                    <p:cNvSpPr/>
                    <p:nvPr/>
                  </p:nvSpPr>
                  <p:spPr>
                    <a:xfrm>
                      <a:off x="3999240" y="2749320"/>
                      <a:ext cx="7185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27" name="直接连接符 19500"/>
                    <p:cNvSpPr/>
                    <p:nvPr/>
                  </p:nvSpPr>
                  <p:spPr>
                    <a:xfrm>
                      <a:off x="3999240" y="267840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8" name="组合 19501"/>
                  <p:cNvGrpSpPr/>
                  <p:nvPr/>
                </p:nvGrpSpPr>
                <p:grpSpPr>
                  <a:xfrm>
                    <a:off x="4718160" y="2678400"/>
                    <a:ext cx="718200" cy="70920"/>
                    <a:chOff x="4718160" y="2678400"/>
                    <a:chExt cx="718200" cy="70920"/>
                  </a:xfrm>
                </p:grpSpPr>
                <p:sp>
                  <p:nvSpPr>
                    <p:cNvPr id="1529" name="直接连接符 19502"/>
                    <p:cNvSpPr/>
                    <p:nvPr/>
                  </p:nvSpPr>
                  <p:spPr>
                    <a:xfrm>
                      <a:off x="4718160" y="2749320"/>
                      <a:ext cx="718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30" name="直接连接符 19503"/>
                    <p:cNvSpPr/>
                    <p:nvPr/>
                  </p:nvSpPr>
                  <p:spPr>
                    <a:xfrm>
                      <a:off x="4718160" y="267840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1" name="直接连接符 19504"/>
                  <p:cNvSpPr/>
                  <p:nvPr/>
                </p:nvSpPr>
                <p:spPr>
                  <a:xfrm>
                    <a:off x="5441400" y="26874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32" name="左大括号 19505"/>
                <p:cNvSpPr/>
                <p:nvPr/>
              </p:nvSpPr>
              <p:spPr>
                <a:xfrm flipV="1" rot="5400000">
                  <a:off x="3891240" y="1085760"/>
                  <a:ext cx="216360" cy="2859120"/>
                </a:xfrm>
                <a:custGeom>
                  <a:avLst/>
                  <a:gdLst>
                    <a:gd name="textAreaLeft" fmla="*/ 138240 w 216360"/>
                    <a:gd name="textAreaRight" fmla="*/ 216720 w 216360"/>
                    <a:gd name="textAreaTop" fmla="*/ 74520 h 2859120"/>
                    <a:gd name="textAreaBottom" fmla="*/ 2784600 h 285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33" name="文本框 19506"/>
              <p:cNvSpPr/>
              <p:nvPr/>
            </p:nvSpPr>
            <p:spPr>
              <a:xfrm>
                <a:off x="3541680" y="1979640"/>
                <a:ext cx="93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“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34" name="直接连接符 19507"/>
            <p:cNvSpPr/>
            <p:nvPr/>
          </p:nvSpPr>
          <p:spPr>
            <a:xfrm>
              <a:off x="5441760" y="2293920"/>
              <a:ext cx="0" cy="1440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5" name="组合 19508"/>
          <p:cNvGrpSpPr/>
          <p:nvPr/>
        </p:nvGrpSpPr>
        <p:grpSpPr>
          <a:xfrm>
            <a:off x="1062000" y="4095720"/>
            <a:ext cx="8072640" cy="1545120"/>
            <a:chOff x="1062000" y="4095720"/>
            <a:chExt cx="8072640" cy="1545120"/>
          </a:xfrm>
        </p:grpSpPr>
        <p:sp>
          <p:nvSpPr>
            <p:cNvPr id="1536" name="TextBox 51"/>
            <p:cNvSpPr/>
            <p:nvPr/>
          </p:nvSpPr>
          <p:spPr>
            <a:xfrm>
              <a:off x="1062000" y="4267080"/>
              <a:ext cx="8072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男生人数比女生人数多     ”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男生人数与女生人数比较；女生人数是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女生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男生人数是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份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37" name="组合 19510"/>
            <p:cNvGrpSpPr/>
            <p:nvPr/>
          </p:nvGrpSpPr>
          <p:grpSpPr>
            <a:xfrm>
              <a:off x="5248440" y="4095720"/>
              <a:ext cx="510480" cy="815040"/>
              <a:chOff x="5248440" y="4095720"/>
              <a:chExt cx="510480" cy="815040"/>
            </a:xfrm>
          </p:grpSpPr>
          <p:sp>
            <p:nvSpPr>
              <p:cNvPr id="1538" name="文本框 19511"/>
              <p:cNvSpPr/>
              <p:nvPr/>
            </p:nvSpPr>
            <p:spPr>
              <a:xfrm>
                <a:off x="5254560" y="44510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9" name="文本框 19512"/>
              <p:cNvSpPr/>
              <p:nvPr/>
            </p:nvSpPr>
            <p:spPr>
              <a:xfrm>
                <a:off x="5248440" y="40957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0" name="直接连接符 19513"/>
              <p:cNvSpPr/>
              <p:nvPr/>
            </p:nvSpPr>
            <p:spPr>
              <a:xfrm>
                <a:off x="5263920" y="4514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41" name="组合 19514"/>
          <p:cNvGrpSpPr/>
          <p:nvPr/>
        </p:nvGrpSpPr>
        <p:grpSpPr>
          <a:xfrm>
            <a:off x="1071720" y="5527800"/>
            <a:ext cx="8072280" cy="1124640"/>
            <a:chOff x="1071720" y="5527800"/>
            <a:chExt cx="8072280" cy="1124640"/>
          </a:xfrm>
        </p:grpSpPr>
        <p:sp>
          <p:nvSpPr>
            <p:cNvPr id="1542" name="TextBox 51"/>
            <p:cNvSpPr/>
            <p:nvPr/>
          </p:nvSpPr>
          <p:spPr>
            <a:xfrm>
              <a:off x="1071720" y="5527800"/>
              <a:ext cx="8072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③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能说说男、女生人数之间有怎样的等量关系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女生人数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男生人数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3" name="组合 19516"/>
            <p:cNvGrpSpPr/>
            <p:nvPr/>
          </p:nvGrpSpPr>
          <p:grpSpPr>
            <a:xfrm>
              <a:off x="3540240" y="5837400"/>
              <a:ext cx="511200" cy="815040"/>
              <a:chOff x="3540240" y="5837400"/>
              <a:chExt cx="511200" cy="815040"/>
            </a:xfrm>
          </p:grpSpPr>
          <p:sp>
            <p:nvSpPr>
              <p:cNvPr id="1544" name="文本框 19517"/>
              <p:cNvSpPr/>
              <p:nvPr/>
            </p:nvSpPr>
            <p:spPr>
              <a:xfrm>
                <a:off x="3546720" y="6192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5" name="文本框 19518"/>
              <p:cNvSpPr/>
              <p:nvPr/>
            </p:nvSpPr>
            <p:spPr>
              <a:xfrm>
                <a:off x="3540240" y="5837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6" name="直接连接符 19519"/>
              <p:cNvSpPr/>
              <p:nvPr/>
            </p:nvSpPr>
            <p:spPr>
              <a:xfrm>
                <a:off x="3556080" y="6256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47" name="矩形 19521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矩形 19522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0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1" name="TextBox 34"/>
          <p:cNvSpPr/>
          <p:nvPr/>
        </p:nvSpPr>
        <p:spPr>
          <a:xfrm>
            <a:off x="642960" y="31813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2" name="TextBox 36"/>
          <p:cNvSpPr/>
          <p:nvPr/>
        </p:nvSpPr>
        <p:spPr>
          <a:xfrm>
            <a:off x="1428840" y="32050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题目中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TextBox 36"/>
          <p:cNvSpPr/>
          <p:nvPr/>
        </p:nvSpPr>
        <p:spPr>
          <a:xfrm>
            <a:off x="1428840" y="522936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道题怎样解答，请你根据题意先画出线段图，再找出爸爸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体重和小明体重之间的等量关系，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最后列方程解答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4" name="组合 20486"/>
          <p:cNvGrpSpPr/>
          <p:nvPr/>
        </p:nvGrpSpPr>
        <p:grpSpPr>
          <a:xfrm>
            <a:off x="797040" y="1989000"/>
            <a:ext cx="8321400" cy="1106640"/>
            <a:chOff x="797040" y="1989000"/>
            <a:chExt cx="8321400" cy="1106640"/>
          </a:xfrm>
        </p:grpSpPr>
        <p:sp>
          <p:nvSpPr>
            <p:cNvPr id="1555" name="TextBox 31"/>
            <p:cNvSpPr/>
            <p:nvPr/>
          </p:nvSpPr>
          <p:spPr>
            <a:xfrm>
              <a:off x="797040" y="2124000"/>
              <a:ext cx="83214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小明的体重是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5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g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，他的体重比爸爸的体重轻      ，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小明爸爸的体重是多少千克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6" name="组合 20488"/>
            <p:cNvGrpSpPr/>
            <p:nvPr/>
          </p:nvGrpSpPr>
          <p:grpSpPr>
            <a:xfrm>
              <a:off x="7715160" y="1989000"/>
              <a:ext cx="504720" cy="815400"/>
              <a:chOff x="7715160" y="1989000"/>
              <a:chExt cx="504720" cy="815400"/>
            </a:xfrm>
          </p:grpSpPr>
          <p:sp>
            <p:nvSpPr>
              <p:cNvPr id="1557" name="文本框 20489"/>
              <p:cNvSpPr/>
              <p:nvPr/>
            </p:nvSpPr>
            <p:spPr>
              <a:xfrm>
                <a:off x="7715160" y="2344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8" name="文本框 20490"/>
              <p:cNvSpPr/>
              <p:nvPr/>
            </p:nvSpPr>
            <p:spPr>
              <a:xfrm>
                <a:off x="780408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9" name="直接连接符 20491"/>
              <p:cNvSpPr/>
              <p:nvPr/>
            </p:nvSpPr>
            <p:spPr>
              <a:xfrm>
                <a:off x="7781760" y="2408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60" name="组合 20492"/>
          <p:cNvGrpSpPr/>
          <p:nvPr/>
        </p:nvGrpSpPr>
        <p:grpSpPr>
          <a:xfrm>
            <a:off x="1428840" y="3390840"/>
            <a:ext cx="7429320" cy="2052000"/>
            <a:chOff x="1428840" y="3390840"/>
            <a:chExt cx="7429320" cy="2052000"/>
          </a:xfrm>
        </p:grpSpPr>
        <p:sp>
          <p:nvSpPr>
            <p:cNvPr id="1561" name="TextBox 36"/>
            <p:cNvSpPr/>
            <p:nvPr/>
          </p:nvSpPr>
          <p:spPr>
            <a:xfrm>
              <a:off x="1428840" y="3573360"/>
              <a:ext cx="74293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小明的体重比爸爸的体重轻       ”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小明体重和爸爸体重在比较；爸爸的体重是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爸爸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体重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小明的体重就是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份；小明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体重是爸爸体重的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）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2" name="组合 20494"/>
            <p:cNvGrpSpPr/>
            <p:nvPr/>
          </p:nvGrpSpPr>
          <p:grpSpPr>
            <a:xfrm>
              <a:off x="6118200" y="3390840"/>
              <a:ext cx="504720" cy="815400"/>
              <a:chOff x="6118200" y="3390840"/>
              <a:chExt cx="504720" cy="815400"/>
            </a:xfrm>
          </p:grpSpPr>
          <p:sp>
            <p:nvSpPr>
              <p:cNvPr id="1563" name="文本框 20495"/>
              <p:cNvSpPr/>
              <p:nvPr/>
            </p:nvSpPr>
            <p:spPr>
              <a:xfrm>
                <a:off x="6118200" y="3746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4" name="文本框 20496"/>
              <p:cNvSpPr/>
              <p:nvPr/>
            </p:nvSpPr>
            <p:spPr>
              <a:xfrm>
                <a:off x="6207120" y="3390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5" name="直接连接符 20497"/>
              <p:cNvSpPr/>
              <p:nvPr/>
            </p:nvSpPr>
            <p:spPr>
              <a:xfrm>
                <a:off x="6184800" y="3809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66" name="组合 20498"/>
            <p:cNvGrpSpPr/>
            <p:nvPr/>
          </p:nvGrpSpPr>
          <p:grpSpPr>
            <a:xfrm>
              <a:off x="4427640" y="4627440"/>
              <a:ext cx="504720" cy="815400"/>
              <a:chOff x="4427640" y="4627440"/>
              <a:chExt cx="504720" cy="815400"/>
            </a:xfrm>
          </p:grpSpPr>
          <p:sp>
            <p:nvSpPr>
              <p:cNvPr id="1567" name="文本框 20499"/>
              <p:cNvSpPr/>
              <p:nvPr/>
            </p:nvSpPr>
            <p:spPr>
              <a:xfrm>
                <a:off x="4427640" y="4983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8" name="文本框 20500"/>
              <p:cNvSpPr/>
              <p:nvPr/>
            </p:nvSpPr>
            <p:spPr>
              <a:xfrm>
                <a:off x="4516560" y="4627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9" name="直接连接符 20501"/>
              <p:cNvSpPr/>
              <p:nvPr/>
            </p:nvSpPr>
            <p:spPr>
              <a:xfrm>
                <a:off x="4494240" y="5046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70" name="矩形 20503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1" name="矩形 20504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Rectangle 2"/>
          <p:cNvSpPr/>
          <p:nvPr/>
        </p:nvSpPr>
        <p:spPr>
          <a:xfrm>
            <a:off x="357120" y="148608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4" name="TextBox 14"/>
          <p:cNvSpPr/>
          <p:nvPr/>
        </p:nvSpPr>
        <p:spPr>
          <a:xfrm>
            <a:off x="3500280" y="208764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爸爸的体重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明比爸爸轻的部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明的体重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75" name="组合 21508"/>
          <p:cNvGrpSpPr/>
          <p:nvPr/>
        </p:nvGrpSpPr>
        <p:grpSpPr>
          <a:xfrm>
            <a:off x="210960" y="2286000"/>
            <a:ext cx="4289760" cy="2574360"/>
            <a:chOff x="210960" y="2286000"/>
            <a:chExt cx="4289760" cy="2574360"/>
          </a:xfrm>
        </p:grpSpPr>
        <p:grpSp>
          <p:nvGrpSpPr>
            <p:cNvPr id="1576" name="组合 21509"/>
            <p:cNvGrpSpPr/>
            <p:nvPr/>
          </p:nvGrpSpPr>
          <p:grpSpPr>
            <a:xfrm>
              <a:off x="210960" y="2286000"/>
              <a:ext cx="4289760" cy="2574360"/>
              <a:chOff x="210960" y="2286000"/>
              <a:chExt cx="4289760" cy="2574360"/>
            </a:xfrm>
          </p:grpSpPr>
          <p:grpSp>
            <p:nvGrpSpPr>
              <p:cNvPr id="1577" name="组合 21510"/>
              <p:cNvGrpSpPr/>
              <p:nvPr/>
            </p:nvGrpSpPr>
            <p:grpSpPr>
              <a:xfrm>
                <a:off x="210960" y="2286000"/>
                <a:ext cx="4289760" cy="2574360"/>
                <a:chOff x="210960" y="2286000"/>
                <a:chExt cx="4289760" cy="2574360"/>
              </a:xfrm>
            </p:grpSpPr>
            <p:grpSp>
              <p:nvGrpSpPr>
                <p:cNvPr id="1578" name="组合 21511"/>
                <p:cNvGrpSpPr/>
                <p:nvPr/>
              </p:nvGrpSpPr>
              <p:grpSpPr>
                <a:xfrm>
                  <a:off x="210960" y="2286000"/>
                  <a:ext cx="4289760" cy="2574360"/>
                  <a:chOff x="210960" y="2286000"/>
                  <a:chExt cx="4289760" cy="2574360"/>
                </a:xfrm>
              </p:grpSpPr>
              <p:grpSp>
                <p:nvGrpSpPr>
                  <p:cNvPr id="1579" name="组合 75"/>
                  <p:cNvGrpSpPr/>
                  <p:nvPr/>
                </p:nvGrpSpPr>
                <p:grpSpPr>
                  <a:xfrm>
                    <a:off x="1138320" y="3540240"/>
                    <a:ext cx="3216240" cy="73080"/>
                    <a:chOff x="1138320" y="3540240"/>
                    <a:chExt cx="3216240" cy="73080"/>
                  </a:xfrm>
                </p:grpSpPr>
                <p:sp>
                  <p:nvSpPr>
                    <p:cNvPr id="1580" name="直接连接符 27"/>
                    <p:cNvSpPr/>
                    <p:nvPr/>
                  </p:nvSpPr>
                  <p:spPr>
                    <a:xfrm>
                      <a:off x="1139040" y="3611880"/>
                      <a:ext cx="321552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1" name="直接连接符 31"/>
                    <p:cNvSpPr/>
                    <p:nvPr/>
                  </p:nvSpPr>
                  <p:spPr>
                    <a:xfrm flipH="1">
                      <a:off x="11383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2" name="直接连接符 35"/>
                    <p:cNvSpPr/>
                    <p:nvPr/>
                  </p:nvSpPr>
                  <p:spPr>
                    <a:xfrm flipH="1">
                      <a:off x="13525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3" name="直接连接符 36"/>
                    <p:cNvSpPr/>
                    <p:nvPr/>
                  </p:nvSpPr>
                  <p:spPr>
                    <a:xfrm flipH="1">
                      <a:off x="156708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4" name="直接连接符 37"/>
                    <p:cNvSpPr/>
                    <p:nvPr/>
                  </p:nvSpPr>
                  <p:spPr>
                    <a:xfrm flipH="1">
                      <a:off x="178128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5" name="直接连接符 38"/>
                    <p:cNvSpPr/>
                    <p:nvPr/>
                  </p:nvSpPr>
                  <p:spPr>
                    <a:xfrm flipH="1">
                      <a:off x="199584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6" name="直接连接符 39"/>
                    <p:cNvSpPr/>
                    <p:nvPr/>
                  </p:nvSpPr>
                  <p:spPr>
                    <a:xfrm flipH="1">
                      <a:off x="221004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7" name="直接连接符 40"/>
                    <p:cNvSpPr/>
                    <p:nvPr/>
                  </p:nvSpPr>
                  <p:spPr>
                    <a:xfrm flipH="1">
                      <a:off x="242460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8" name="直接连接符 41"/>
                    <p:cNvSpPr/>
                    <p:nvPr/>
                  </p:nvSpPr>
                  <p:spPr>
                    <a:xfrm flipH="1">
                      <a:off x="263880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9" name="直接连接符 42"/>
                    <p:cNvSpPr/>
                    <p:nvPr/>
                  </p:nvSpPr>
                  <p:spPr>
                    <a:xfrm flipH="1">
                      <a:off x="285336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0" name="直接连接符 43"/>
                    <p:cNvSpPr/>
                    <p:nvPr/>
                  </p:nvSpPr>
                  <p:spPr>
                    <a:xfrm flipH="1">
                      <a:off x="306756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1" name="直接连接符 44"/>
                    <p:cNvSpPr/>
                    <p:nvPr/>
                  </p:nvSpPr>
                  <p:spPr>
                    <a:xfrm flipH="1">
                      <a:off x="32821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2" name="直接连接符 45"/>
                    <p:cNvSpPr/>
                    <p:nvPr/>
                  </p:nvSpPr>
                  <p:spPr>
                    <a:xfrm flipH="1">
                      <a:off x="34963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3" name="直接连接符 46"/>
                    <p:cNvSpPr/>
                    <p:nvPr/>
                  </p:nvSpPr>
                  <p:spPr>
                    <a:xfrm flipH="1">
                      <a:off x="371088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4" name="直接连接符 47"/>
                    <p:cNvSpPr/>
                    <p:nvPr/>
                  </p:nvSpPr>
                  <p:spPr>
                    <a:xfrm flipH="1">
                      <a:off x="392508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5" name="直接连接符 48"/>
                    <p:cNvSpPr/>
                    <p:nvPr/>
                  </p:nvSpPr>
                  <p:spPr>
                    <a:xfrm flipH="1">
                      <a:off x="413964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6" name="直接连接符 49"/>
                    <p:cNvSpPr/>
                    <p:nvPr/>
                  </p:nvSpPr>
                  <p:spPr>
                    <a:xfrm flipH="1">
                      <a:off x="435384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7" name="TextBox 34"/>
                  <p:cNvSpPr/>
                  <p:nvPr/>
                </p:nvSpPr>
                <p:spPr>
                  <a:xfrm>
                    <a:off x="210960" y="3929040"/>
                    <a:ext cx="1000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小明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598" name="组合 21531"/>
                  <p:cNvGrpSpPr/>
                  <p:nvPr/>
                </p:nvGrpSpPr>
                <p:grpSpPr>
                  <a:xfrm>
                    <a:off x="210960" y="2286000"/>
                    <a:ext cx="4289760" cy="2574360"/>
                    <a:chOff x="210960" y="2286000"/>
                    <a:chExt cx="4289760" cy="2574360"/>
                  </a:xfrm>
                </p:grpSpPr>
                <p:pic>
                  <p:nvPicPr>
                    <p:cNvPr id="1599" name="右大括号 73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131840" y="2840040"/>
                      <a:ext cx="32209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00" name="右大括号 8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4121280"/>
                      <a:ext cx="152064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01" name="TextBox 34"/>
                    <p:cNvSpPr/>
                    <p:nvPr/>
                  </p:nvSpPr>
                  <p:spPr>
                    <a:xfrm>
                      <a:off x="210960" y="2286000"/>
                      <a:ext cx="1624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预设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：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2" name="TextBox 34"/>
                    <p:cNvSpPr/>
                    <p:nvPr/>
                  </p:nvSpPr>
                  <p:spPr>
                    <a:xfrm>
                      <a:off x="244440" y="3341520"/>
                      <a:ext cx="966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爸爸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：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3" name="TextBox 74"/>
                    <p:cNvSpPr/>
                    <p:nvPr/>
                  </p:nvSpPr>
                  <p:spPr>
                    <a:xfrm>
                      <a:off x="2282760" y="2585880"/>
                      <a:ext cx="928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“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”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pic>
                  <p:nvPicPr>
                    <p:cNvPr id="1604" name="右大括号 7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625840" y="3290760"/>
                      <a:ext cx="173808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05" name="TextBox 79"/>
                    <p:cNvSpPr/>
                    <p:nvPr/>
                  </p:nvSpPr>
                  <p:spPr>
                    <a:xfrm>
                      <a:off x="2571840" y="3127320"/>
                      <a:ext cx="19288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小明的体重比爸爸轻</a:t>
                      </a:r>
                      <a:endParaRPr b="0" i="1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6" name="TextBox 81"/>
                    <p:cNvSpPr/>
                    <p:nvPr/>
                  </p:nvSpPr>
                  <p:spPr>
                    <a:xfrm>
                      <a:off x="2639880" y="3797280"/>
                      <a:ext cx="1143000" cy="532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？千克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7" name="TextBox 83"/>
                    <p:cNvSpPr/>
                    <p:nvPr/>
                  </p:nvSpPr>
                  <p:spPr>
                    <a:xfrm>
                      <a:off x="853920" y="3755880"/>
                      <a:ext cx="19288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是爸爸体重的几分之几？</a:t>
                      </a:r>
                      <a:endParaRPr b="0" i="1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8" name="TextBox 85"/>
                    <p:cNvSpPr/>
                    <p:nvPr/>
                  </p:nvSpPr>
                  <p:spPr>
                    <a:xfrm>
                      <a:off x="1568520" y="4327560"/>
                      <a:ext cx="1143000" cy="532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5</a:t>
                      </a: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千克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609" name="右大括号 8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44440" y="3567240"/>
                  <a:ext cx="322128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0" name="Object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48200" y="3068640"/>
                  <a:ext cx="234720" cy="382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11" name="椭圆 77"/>
              <p:cNvSpPr/>
              <p:nvPr/>
            </p:nvSpPr>
            <p:spPr>
              <a:xfrm>
                <a:off x="2639880" y="3255840"/>
                <a:ext cx="1714680" cy="6429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直接连接符 34"/>
              <p:cNvSpPr/>
              <p:nvPr/>
            </p:nvSpPr>
            <p:spPr>
              <a:xfrm>
                <a:off x="2620080" y="3246480"/>
                <a:ext cx="9720" cy="12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613" name="右大括号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1128600" y="3889440"/>
                <a:ext cx="1521000" cy="36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4" name="组合 76"/>
            <p:cNvGrpSpPr/>
            <p:nvPr/>
          </p:nvGrpSpPr>
          <p:grpSpPr>
            <a:xfrm>
              <a:off x="1139760" y="4113360"/>
              <a:ext cx="1500120" cy="71280"/>
              <a:chOff x="1139760" y="4113360"/>
              <a:chExt cx="1500120" cy="71280"/>
            </a:xfrm>
          </p:grpSpPr>
          <p:sp>
            <p:nvSpPr>
              <p:cNvPr id="1615" name="直接连接符 61"/>
              <p:cNvSpPr/>
              <p:nvPr/>
            </p:nvSpPr>
            <p:spPr>
              <a:xfrm>
                <a:off x="1139760" y="4183200"/>
                <a:ext cx="1499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6" name="直接连接符 62"/>
              <p:cNvSpPr/>
              <p:nvPr/>
            </p:nvSpPr>
            <p:spPr>
              <a:xfrm flipH="1">
                <a:off x="11397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7" name="直接连接符 63"/>
              <p:cNvSpPr/>
              <p:nvPr/>
            </p:nvSpPr>
            <p:spPr>
              <a:xfrm flipH="1">
                <a:off x="13539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8" name="直接连接符 64"/>
              <p:cNvSpPr/>
              <p:nvPr/>
            </p:nvSpPr>
            <p:spPr>
              <a:xfrm flipH="1">
                <a:off x="15681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9" name="直接连接符 65"/>
              <p:cNvSpPr/>
              <p:nvPr/>
            </p:nvSpPr>
            <p:spPr>
              <a:xfrm flipH="1">
                <a:off x="17823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0" name="直接连接符 66"/>
              <p:cNvSpPr/>
              <p:nvPr/>
            </p:nvSpPr>
            <p:spPr>
              <a:xfrm flipH="1">
                <a:off x="19965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1" name="直接连接符 67"/>
              <p:cNvSpPr/>
              <p:nvPr/>
            </p:nvSpPr>
            <p:spPr>
              <a:xfrm flipH="1">
                <a:off x="22107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2" name="直接连接符 68"/>
              <p:cNvSpPr/>
              <p:nvPr/>
            </p:nvSpPr>
            <p:spPr>
              <a:xfrm flipH="1">
                <a:off x="2424960" y="412704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3" name="直接连接符 69"/>
              <p:cNvSpPr/>
              <p:nvPr/>
            </p:nvSpPr>
            <p:spPr>
              <a:xfrm flipH="1">
                <a:off x="2639160" y="412704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24" name="TextBox 135"/>
          <p:cNvSpPr/>
          <p:nvPr/>
        </p:nvSpPr>
        <p:spPr>
          <a:xfrm>
            <a:off x="247680" y="48848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5" name="TextBox 136"/>
          <p:cNvSpPr/>
          <p:nvPr/>
        </p:nvSpPr>
        <p:spPr>
          <a:xfrm>
            <a:off x="1000080" y="4896000"/>
            <a:ext cx="73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们能借助线段图理解这个等量关系式和方程的意思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6" name="TextBox 136"/>
          <p:cNvSpPr/>
          <p:nvPr/>
        </p:nvSpPr>
        <p:spPr>
          <a:xfrm>
            <a:off x="1000080" y="5319720"/>
            <a:ext cx="64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图中哪部分是小明体重比爸爸轻的部分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7" name="TextBox 136"/>
          <p:cNvSpPr/>
          <p:nvPr/>
        </p:nvSpPr>
        <p:spPr>
          <a:xfrm>
            <a:off x="1000080" y="5786280"/>
            <a:ext cx="55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他是怎样求小明体重比爸爸轻的部分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28" name="组合 21561"/>
          <p:cNvGrpSpPr/>
          <p:nvPr/>
        </p:nvGrpSpPr>
        <p:grpSpPr>
          <a:xfrm>
            <a:off x="4714920" y="2500200"/>
            <a:ext cx="4143240" cy="2531880"/>
            <a:chOff x="4714920" y="2500200"/>
            <a:chExt cx="4143240" cy="2531880"/>
          </a:xfrm>
        </p:grpSpPr>
        <p:sp>
          <p:nvSpPr>
            <p:cNvPr id="1629" name="TextBox 14"/>
            <p:cNvSpPr/>
            <p:nvPr/>
          </p:nvSpPr>
          <p:spPr>
            <a:xfrm>
              <a:off x="4714920" y="2500200"/>
              <a:ext cx="41432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解：设爸爸的体重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0" name="组合 21563"/>
            <p:cNvGrpSpPr/>
            <p:nvPr/>
          </p:nvGrpSpPr>
          <p:grpSpPr>
            <a:xfrm>
              <a:off x="5640480" y="2770200"/>
              <a:ext cx="504720" cy="815400"/>
              <a:chOff x="5640480" y="2770200"/>
              <a:chExt cx="504720" cy="815400"/>
            </a:xfrm>
          </p:grpSpPr>
          <p:sp>
            <p:nvSpPr>
              <p:cNvPr id="1631" name="文本框 21564"/>
              <p:cNvSpPr/>
              <p:nvPr/>
            </p:nvSpPr>
            <p:spPr>
              <a:xfrm>
                <a:off x="5640480" y="3125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2" name="文本框 21565"/>
              <p:cNvSpPr/>
              <p:nvPr/>
            </p:nvSpPr>
            <p:spPr>
              <a:xfrm>
                <a:off x="5729400" y="2770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3" name="直接连接符 21566"/>
              <p:cNvSpPr/>
              <p:nvPr/>
            </p:nvSpPr>
            <p:spPr>
              <a:xfrm>
                <a:off x="5707080" y="3189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34" name="组合 21567"/>
            <p:cNvGrpSpPr/>
            <p:nvPr/>
          </p:nvGrpSpPr>
          <p:grpSpPr>
            <a:xfrm>
              <a:off x="5657760" y="3359160"/>
              <a:ext cx="504720" cy="815400"/>
              <a:chOff x="5657760" y="3359160"/>
              <a:chExt cx="504720" cy="815400"/>
            </a:xfrm>
          </p:grpSpPr>
          <p:sp>
            <p:nvSpPr>
              <p:cNvPr id="1635" name="文本框 21568"/>
              <p:cNvSpPr/>
              <p:nvPr/>
            </p:nvSpPr>
            <p:spPr>
              <a:xfrm>
                <a:off x="5657760" y="3714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6" name="文本框 21569"/>
              <p:cNvSpPr/>
              <p:nvPr/>
            </p:nvSpPr>
            <p:spPr>
              <a:xfrm>
                <a:off x="5746680" y="3359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7" name="直接连接符 21570"/>
              <p:cNvSpPr/>
              <p:nvPr/>
            </p:nvSpPr>
            <p:spPr>
              <a:xfrm>
                <a:off x="5724360" y="3778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38" name="组合 21571"/>
            <p:cNvGrpSpPr/>
            <p:nvPr/>
          </p:nvGrpSpPr>
          <p:grpSpPr>
            <a:xfrm>
              <a:off x="7015320" y="3849840"/>
              <a:ext cx="586800" cy="815040"/>
              <a:chOff x="7015320" y="3849840"/>
              <a:chExt cx="586800" cy="815040"/>
            </a:xfrm>
          </p:grpSpPr>
          <p:sp>
            <p:nvSpPr>
              <p:cNvPr id="1639" name="文本框 21572"/>
              <p:cNvSpPr/>
              <p:nvPr/>
            </p:nvSpPr>
            <p:spPr>
              <a:xfrm>
                <a:off x="7097400" y="4205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0" name="文本框 21573"/>
              <p:cNvSpPr/>
              <p:nvPr/>
            </p:nvSpPr>
            <p:spPr>
              <a:xfrm>
                <a:off x="7015320" y="3849840"/>
                <a:ext cx="5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1" name="直接连接符 21574"/>
              <p:cNvSpPr/>
              <p:nvPr/>
            </p:nvSpPr>
            <p:spPr>
              <a:xfrm>
                <a:off x="7078320" y="42685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42" name="矩形 21576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3" name="矩形 21577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4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645" name="图片 22530" descr=""/>
          <p:cNvPicPr/>
          <p:nvPr/>
        </p:nvPicPr>
        <p:blipFill>
          <a:blip r:embed="rId2"/>
          <a:stretch/>
        </p:blipFill>
        <p:spPr>
          <a:xfrm>
            <a:off x="347760" y="266760"/>
            <a:ext cx="841032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7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8" name="组合 23555"/>
          <p:cNvGrpSpPr/>
          <p:nvPr/>
        </p:nvGrpSpPr>
        <p:grpSpPr>
          <a:xfrm>
            <a:off x="214200" y="2286000"/>
            <a:ext cx="4286520" cy="2545920"/>
            <a:chOff x="214200" y="2286000"/>
            <a:chExt cx="4286520" cy="2545920"/>
          </a:xfrm>
        </p:grpSpPr>
        <p:grpSp>
          <p:nvGrpSpPr>
            <p:cNvPr id="1649" name="组合 23556"/>
            <p:cNvGrpSpPr/>
            <p:nvPr/>
          </p:nvGrpSpPr>
          <p:grpSpPr>
            <a:xfrm>
              <a:off x="214200" y="2286000"/>
              <a:ext cx="4286520" cy="2545920"/>
              <a:chOff x="214200" y="2286000"/>
              <a:chExt cx="4286520" cy="2545920"/>
            </a:xfrm>
          </p:grpSpPr>
          <p:grpSp>
            <p:nvGrpSpPr>
              <p:cNvPr id="1650" name="组合 23557"/>
              <p:cNvGrpSpPr/>
              <p:nvPr/>
            </p:nvGrpSpPr>
            <p:grpSpPr>
              <a:xfrm>
                <a:off x="214200" y="2286000"/>
                <a:ext cx="4286520" cy="2545920"/>
                <a:chOff x="214200" y="2286000"/>
                <a:chExt cx="4286520" cy="2545920"/>
              </a:xfrm>
            </p:grpSpPr>
            <p:sp>
              <p:nvSpPr>
                <p:cNvPr id="1651" name="TextBox 34"/>
                <p:cNvSpPr/>
                <p:nvPr/>
              </p:nvSpPr>
              <p:spPr>
                <a:xfrm>
                  <a:off x="214200" y="2286000"/>
                  <a:ext cx="14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预设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52" name="组合 23559"/>
                <p:cNvGrpSpPr/>
                <p:nvPr/>
              </p:nvGrpSpPr>
              <p:grpSpPr>
                <a:xfrm>
                  <a:off x="214200" y="2571840"/>
                  <a:ext cx="4286520" cy="2260080"/>
                  <a:chOff x="214200" y="2571840"/>
                  <a:chExt cx="4286520" cy="2260080"/>
                </a:xfrm>
              </p:grpSpPr>
              <p:pic>
                <p:nvPicPr>
                  <p:cNvPr id="1653" name="右大括号 12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119240" y="2825640"/>
                    <a:ext cx="32446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4" name="右大括号 1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4132440"/>
                    <a:ext cx="1519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5" name="TextBox 115"/>
                  <p:cNvSpPr/>
                  <p:nvPr/>
                </p:nvSpPr>
                <p:spPr>
                  <a:xfrm>
                    <a:off x="2571840" y="3098880"/>
                    <a:ext cx="1928880" cy="312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小明的体重比爸爸轻</a:t>
                    </a:r>
                    <a:endPara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pic>
                <p:nvPicPr>
                  <p:cNvPr id="165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95720" y="3059280"/>
                    <a:ext cx="23328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7" name="TextBox 117"/>
                  <p:cNvSpPr/>
                  <p:nvPr/>
                </p:nvSpPr>
                <p:spPr>
                  <a:xfrm>
                    <a:off x="2639880" y="3768840"/>
                    <a:ext cx="1143000" cy="53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千克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58" name="TextBox 119"/>
                  <p:cNvSpPr/>
                  <p:nvPr/>
                </p:nvSpPr>
                <p:spPr>
                  <a:xfrm>
                    <a:off x="1589040" y="4299120"/>
                    <a:ext cx="1143000" cy="53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35</a:t>
                    </a: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千克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59" name="TextBox 34"/>
                  <p:cNvSpPr/>
                  <p:nvPr/>
                </p:nvSpPr>
                <p:spPr>
                  <a:xfrm>
                    <a:off x="247680" y="3330720"/>
                    <a:ext cx="966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爸爸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60" name="TextBox 34"/>
                  <p:cNvSpPr/>
                  <p:nvPr/>
                </p:nvSpPr>
                <p:spPr>
                  <a:xfrm>
                    <a:off x="214200" y="3917880"/>
                    <a:ext cx="1000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小明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61" name="TextBox 123"/>
                  <p:cNvSpPr/>
                  <p:nvPr/>
                </p:nvSpPr>
                <p:spPr>
                  <a:xfrm>
                    <a:off x="2300400" y="2571840"/>
                    <a:ext cx="928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“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pic>
                <p:nvPicPr>
                  <p:cNvPr id="1662" name="右大括号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3640" y="3821040"/>
                    <a:ext cx="15206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3" name="右大括号 1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5840" y="3276720"/>
                    <a:ext cx="17510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4" name="椭圆 130"/>
                  <p:cNvSpPr/>
                  <p:nvPr/>
                </p:nvSpPr>
                <p:spPr>
                  <a:xfrm>
                    <a:off x="1128600" y="3244680"/>
                    <a:ext cx="1500480" cy="642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5" name="组合 86"/>
              <p:cNvGrpSpPr/>
              <p:nvPr/>
            </p:nvGrpSpPr>
            <p:grpSpPr>
              <a:xfrm>
                <a:off x="1139760" y="3511440"/>
                <a:ext cx="3214800" cy="73080"/>
                <a:chOff x="1139760" y="3511440"/>
                <a:chExt cx="3214800" cy="73080"/>
              </a:xfrm>
            </p:grpSpPr>
            <p:sp>
              <p:nvSpPr>
                <p:cNvPr id="1666" name="直接连接符 87"/>
                <p:cNvSpPr/>
                <p:nvPr/>
              </p:nvSpPr>
              <p:spPr>
                <a:xfrm>
                  <a:off x="1140480" y="3583080"/>
                  <a:ext cx="32140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7" name="直接连接符 88"/>
                <p:cNvSpPr/>
                <p:nvPr/>
              </p:nvSpPr>
              <p:spPr>
                <a:xfrm flipH="1">
                  <a:off x="11397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8" name="直接连接符 89"/>
                <p:cNvSpPr/>
                <p:nvPr/>
              </p:nvSpPr>
              <p:spPr>
                <a:xfrm flipH="1">
                  <a:off x="13539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9" name="直接连接符 90"/>
                <p:cNvSpPr/>
                <p:nvPr/>
              </p:nvSpPr>
              <p:spPr>
                <a:xfrm flipH="1">
                  <a:off x="15681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0" name="直接连接符 91"/>
                <p:cNvSpPr/>
                <p:nvPr/>
              </p:nvSpPr>
              <p:spPr>
                <a:xfrm flipH="1">
                  <a:off x="17823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1" name="直接连接符 92"/>
                <p:cNvSpPr/>
                <p:nvPr/>
              </p:nvSpPr>
              <p:spPr>
                <a:xfrm flipH="1">
                  <a:off x="19969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2" name="直接连接符 93"/>
                <p:cNvSpPr/>
                <p:nvPr/>
              </p:nvSpPr>
              <p:spPr>
                <a:xfrm flipH="1">
                  <a:off x="22111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3" name="直接连接符 94"/>
                <p:cNvSpPr/>
                <p:nvPr/>
              </p:nvSpPr>
              <p:spPr>
                <a:xfrm flipH="1">
                  <a:off x="24253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4" name="直接连接符 95"/>
                <p:cNvSpPr/>
                <p:nvPr/>
              </p:nvSpPr>
              <p:spPr>
                <a:xfrm flipH="1">
                  <a:off x="26395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5" name="直接连接符 96"/>
                <p:cNvSpPr/>
                <p:nvPr/>
              </p:nvSpPr>
              <p:spPr>
                <a:xfrm flipH="1">
                  <a:off x="28540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6" name="直接连接符 97"/>
                <p:cNvSpPr/>
                <p:nvPr/>
              </p:nvSpPr>
              <p:spPr>
                <a:xfrm flipH="1">
                  <a:off x="30682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7" name="直接连接符 98"/>
                <p:cNvSpPr/>
                <p:nvPr/>
              </p:nvSpPr>
              <p:spPr>
                <a:xfrm flipH="1">
                  <a:off x="32824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8" name="直接连接符 99"/>
                <p:cNvSpPr/>
                <p:nvPr/>
              </p:nvSpPr>
              <p:spPr>
                <a:xfrm flipH="1">
                  <a:off x="34966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9" name="直接连接符 100"/>
                <p:cNvSpPr/>
                <p:nvPr/>
              </p:nvSpPr>
              <p:spPr>
                <a:xfrm flipH="1">
                  <a:off x="37112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0" name="直接连接符 101"/>
                <p:cNvSpPr/>
                <p:nvPr/>
              </p:nvSpPr>
              <p:spPr>
                <a:xfrm flipH="1">
                  <a:off x="39254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1" name="直接连接符 102"/>
                <p:cNvSpPr/>
                <p:nvPr/>
              </p:nvSpPr>
              <p:spPr>
                <a:xfrm flipH="1">
                  <a:off x="41396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2" name="直接连接符 103"/>
                <p:cNvSpPr/>
                <p:nvPr/>
              </p:nvSpPr>
              <p:spPr>
                <a:xfrm flipH="1">
                  <a:off x="43538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83" name="组合 104"/>
              <p:cNvGrpSpPr/>
              <p:nvPr/>
            </p:nvGrpSpPr>
            <p:grpSpPr>
              <a:xfrm>
                <a:off x="1139760" y="4098960"/>
                <a:ext cx="1500120" cy="71280"/>
                <a:chOff x="1139760" y="4098960"/>
                <a:chExt cx="1500120" cy="71280"/>
              </a:xfrm>
            </p:grpSpPr>
            <p:sp>
              <p:nvSpPr>
                <p:cNvPr id="1684" name="直接连接符 105"/>
                <p:cNvSpPr/>
                <p:nvPr/>
              </p:nvSpPr>
              <p:spPr>
                <a:xfrm>
                  <a:off x="1139760" y="4168800"/>
                  <a:ext cx="149940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5" name="直接连接符 106"/>
                <p:cNvSpPr/>
                <p:nvPr/>
              </p:nvSpPr>
              <p:spPr>
                <a:xfrm flipH="1">
                  <a:off x="11397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6" name="直接连接符 107"/>
                <p:cNvSpPr/>
                <p:nvPr/>
              </p:nvSpPr>
              <p:spPr>
                <a:xfrm flipH="1">
                  <a:off x="13539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7" name="直接连接符 108"/>
                <p:cNvSpPr/>
                <p:nvPr/>
              </p:nvSpPr>
              <p:spPr>
                <a:xfrm flipH="1">
                  <a:off x="15681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8" name="直接连接符 109"/>
                <p:cNvSpPr/>
                <p:nvPr/>
              </p:nvSpPr>
              <p:spPr>
                <a:xfrm flipH="1">
                  <a:off x="17823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9" name="直接连接符 110"/>
                <p:cNvSpPr/>
                <p:nvPr/>
              </p:nvSpPr>
              <p:spPr>
                <a:xfrm flipH="1">
                  <a:off x="19965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0" name="直接连接符 111"/>
                <p:cNvSpPr/>
                <p:nvPr/>
              </p:nvSpPr>
              <p:spPr>
                <a:xfrm flipH="1">
                  <a:off x="22107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1" name="直接连接符 112"/>
                <p:cNvSpPr/>
                <p:nvPr/>
              </p:nvSpPr>
              <p:spPr>
                <a:xfrm flipH="1">
                  <a:off x="2424960" y="411264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2" name="直接连接符 113"/>
                <p:cNvSpPr/>
                <p:nvPr/>
              </p:nvSpPr>
              <p:spPr>
                <a:xfrm flipH="1">
                  <a:off x="2639160" y="411264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93" name="TextBox 118"/>
              <p:cNvSpPr/>
              <p:nvPr/>
            </p:nvSpPr>
            <p:spPr>
              <a:xfrm>
                <a:off x="853920" y="3728880"/>
                <a:ext cx="1928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是爸爸体重的几分之几？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pic>
          <p:nvPicPr>
            <p:cNvPr id="1694" name="右大括号 127" descr=""/>
            <p:cNvPicPr/>
            <p:nvPr/>
          </p:nvPicPr>
          <p:blipFill>
            <a:blip r:embed="rId6"/>
            <a:stretch/>
          </p:blipFill>
          <p:spPr>
            <a:xfrm>
              <a:off x="1150920" y="3567240"/>
              <a:ext cx="32162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5" name="直接连接符 129"/>
            <p:cNvSpPr/>
            <p:nvPr/>
          </p:nvSpPr>
          <p:spPr>
            <a:xfrm>
              <a:off x="2649600" y="3246480"/>
              <a:ext cx="9360" cy="1252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96" name="TextBox 104"/>
          <p:cNvSpPr/>
          <p:nvPr/>
        </p:nvSpPr>
        <p:spPr>
          <a:xfrm>
            <a:off x="214200" y="48960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7" name="TextBox 114"/>
          <p:cNvSpPr/>
          <p:nvPr/>
        </p:nvSpPr>
        <p:spPr>
          <a:xfrm>
            <a:off x="1000080" y="48880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们能借助线段图理解这个数量关系式和方程的意思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8" name="TextBox 114"/>
          <p:cNvSpPr/>
          <p:nvPr/>
        </p:nvSpPr>
        <p:spPr>
          <a:xfrm>
            <a:off x="1000080" y="53020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图中小明的体重相当于爸爸体重的哪一部分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9" name="TextBox 114"/>
          <p:cNvSpPr/>
          <p:nvPr/>
        </p:nvSpPr>
        <p:spPr>
          <a:xfrm>
            <a:off x="1000080" y="573084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明的体重相当于爸爸体重的几分之几？你是怎样得到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00" name="组合 23607"/>
          <p:cNvGrpSpPr/>
          <p:nvPr/>
        </p:nvGrpSpPr>
        <p:grpSpPr>
          <a:xfrm>
            <a:off x="4357800" y="1844640"/>
            <a:ext cx="4786200" cy="815400"/>
            <a:chOff x="4357800" y="1844640"/>
            <a:chExt cx="4786200" cy="815400"/>
          </a:xfrm>
        </p:grpSpPr>
        <p:sp>
          <p:nvSpPr>
            <p:cNvPr id="1701" name="TextBox 28"/>
            <p:cNvSpPr/>
            <p:nvPr/>
          </p:nvSpPr>
          <p:spPr>
            <a:xfrm>
              <a:off x="4357800" y="201132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爸爸的体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）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小明的体重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02" name="组合 23609"/>
            <p:cNvGrpSpPr/>
            <p:nvPr/>
          </p:nvGrpSpPr>
          <p:grpSpPr>
            <a:xfrm>
              <a:off x="6670800" y="1844640"/>
              <a:ext cx="504720" cy="815400"/>
              <a:chOff x="6670800" y="1844640"/>
              <a:chExt cx="504720" cy="815400"/>
            </a:xfrm>
          </p:grpSpPr>
          <p:sp>
            <p:nvSpPr>
              <p:cNvPr id="1703" name="文本框 23610"/>
              <p:cNvSpPr/>
              <p:nvPr/>
            </p:nvSpPr>
            <p:spPr>
              <a:xfrm>
                <a:off x="6670800" y="2200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4" name="文本框 23611"/>
              <p:cNvSpPr/>
              <p:nvPr/>
            </p:nvSpPr>
            <p:spPr>
              <a:xfrm>
                <a:off x="6759720" y="184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5" name="直接连接符 23612"/>
              <p:cNvSpPr/>
              <p:nvPr/>
            </p:nvSpPr>
            <p:spPr>
              <a:xfrm>
                <a:off x="6737400" y="2263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06" name="组合 23613"/>
          <p:cNvGrpSpPr/>
          <p:nvPr/>
        </p:nvGrpSpPr>
        <p:grpSpPr>
          <a:xfrm>
            <a:off x="4857840" y="2471760"/>
            <a:ext cx="4143240" cy="2288520"/>
            <a:chOff x="4857840" y="2471760"/>
            <a:chExt cx="4143240" cy="2288520"/>
          </a:xfrm>
        </p:grpSpPr>
        <p:sp>
          <p:nvSpPr>
            <p:cNvPr id="1707" name="TextBox 28"/>
            <p:cNvSpPr/>
            <p:nvPr/>
          </p:nvSpPr>
          <p:spPr>
            <a:xfrm>
              <a:off x="4857840" y="2471760"/>
              <a:ext cx="4143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解：设爸爸的体重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08" name="组合 23615"/>
            <p:cNvGrpSpPr/>
            <p:nvPr/>
          </p:nvGrpSpPr>
          <p:grpSpPr>
            <a:xfrm>
              <a:off x="6012000" y="2741760"/>
              <a:ext cx="504720" cy="815040"/>
              <a:chOff x="6012000" y="2741760"/>
              <a:chExt cx="504720" cy="815040"/>
            </a:xfrm>
          </p:grpSpPr>
          <p:sp>
            <p:nvSpPr>
              <p:cNvPr id="1709" name="文本框 23616"/>
              <p:cNvSpPr/>
              <p:nvPr/>
            </p:nvSpPr>
            <p:spPr>
              <a:xfrm>
                <a:off x="6012000" y="3097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0" name="文本框 23617"/>
              <p:cNvSpPr/>
              <p:nvPr/>
            </p:nvSpPr>
            <p:spPr>
              <a:xfrm>
                <a:off x="6100920" y="2741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1" name="直接连接符 23618"/>
              <p:cNvSpPr/>
              <p:nvPr/>
            </p:nvSpPr>
            <p:spPr>
              <a:xfrm>
                <a:off x="6078600" y="3160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12" name="组合 23619"/>
            <p:cNvGrpSpPr/>
            <p:nvPr/>
          </p:nvGrpSpPr>
          <p:grpSpPr>
            <a:xfrm>
              <a:off x="5468760" y="3213000"/>
              <a:ext cx="504720" cy="815400"/>
              <a:chOff x="5468760" y="3213000"/>
              <a:chExt cx="504720" cy="815400"/>
            </a:xfrm>
          </p:grpSpPr>
          <p:sp>
            <p:nvSpPr>
              <p:cNvPr id="1713" name="文本框 23620"/>
              <p:cNvSpPr/>
              <p:nvPr/>
            </p:nvSpPr>
            <p:spPr>
              <a:xfrm>
                <a:off x="5468760" y="3568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4" name="文本框 23621"/>
              <p:cNvSpPr/>
              <p:nvPr/>
            </p:nvSpPr>
            <p:spPr>
              <a:xfrm>
                <a:off x="5557680" y="3213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5" name="直接连接符 23622"/>
              <p:cNvSpPr/>
              <p:nvPr/>
            </p:nvSpPr>
            <p:spPr>
              <a:xfrm>
                <a:off x="5535360" y="3632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16" name="组合 23623"/>
            <p:cNvGrpSpPr/>
            <p:nvPr/>
          </p:nvGrpSpPr>
          <p:grpSpPr>
            <a:xfrm>
              <a:off x="6877080" y="3660840"/>
              <a:ext cx="587520" cy="815400"/>
              <a:chOff x="6877080" y="3660840"/>
              <a:chExt cx="587520" cy="815400"/>
            </a:xfrm>
          </p:grpSpPr>
          <p:sp>
            <p:nvSpPr>
              <p:cNvPr id="1717" name="文本框 23624"/>
              <p:cNvSpPr/>
              <p:nvPr/>
            </p:nvSpPr>
            <p:spPr>
              <a:xfrm>
                <a:off x="6959520" y="40165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8" name="文本框 23625"/>
              <p:cNvSpPr/>
              <p:nvPr/>
            </p:nvSpPr>
            <p:spPr>
              <a:xfrm>
                <a:off x="6877080" y="366084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9" name="直接连接符 23626"/>
              <p:cNvSpPr/>
              <p:nvPr/>
            </p:nvSpPr>
            <p:spPr>
              <a:xfrm>
                <a:off x="6940440" y="4079880"/>
                <a:ext cx="36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1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2" name="TextBox 114"/>
          <p:cNvSpPr/>
          <p:nvPr/>
        </p:nvSpPr>
        <p:spPr>
          <a:xfrm>
            <a:off x="214200" y="532908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3" name="TextBox 124"/>
          <p:cNvSpPr/>
          <p:nvPr/>
        </p:nvSpPr>
        <p:spPr>
          <a:xfrm>
            <a:off x="928800" y="53434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虽然两种解法不同，但是都是依据分数乘法的意义找到等量关系，用方程解答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4" name="组合 24581"/>
          <p:cNvGrpSpPr/>
          <p:nvPr/>
        </p:nvGrpSpPr>
        <p:grpSpPr>
          <a:xfrm>
            <a:off x="184320" y="1892160"/>
            <a:ext cx="9245520" cy="3457440"/>
            <a:chOff x="184320" y="1892160"/>
            <a:chExt cx="9245520" cy="3457440"/>
          </a:xfrm>
        </p:grpSpPr>
        <p:grpSp>
          <p:nvGrpSpPr>
            <p:cNvPr id="1725" name="组合 24582"/>
            <p:cNvGrpSpPr/>
            <p:nvPr/>
          </p:nvGrpSpPr>
          <p:grpSpPr>
            <a:xfrm>
              <a:off x="184320" y="1892160"/>
              <a:ext cx="9245520" cy="3457440"/>
              <a:chOff x="184320" y="1892160"/>
              <a:chExt cx="9245520" cy="3457440"/>
            </a:xfrm>
          </p:grpSpPr>
          <p:sp>
            <p:nvSpPr>
              <p:cNvPr id="1726" name="TextBox 14"/>
              <p:cNvSpPr/>
              <p:nvPr/>
            </p:nvSpPr>
            <p:spPr>
              <a:xfrm>
                <a:off x="184320" y="2036880"/>
                <a:ext cx="5572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爸爸的体重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－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小明比爸爸轻的部分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小明的体重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27" name="组合 24584"/>
              <p:cNvGrpSpPr/>
              <p:nvPr/>
            </p:nvGrpSpPr>
            <p:grpSpPr>
              <a:xfrm>
                <a:off x="693720" y="2817720"/>
                <a:ext cx="4143240" cy="2531880"/>
                <a:chOff x="693720" y="2817720"/>
                <a:chExt cx="4143240" cy="2531880"/>
              </a:xfrm>
            </p:grpSpPr>
            <p:sp>
              <p:nvSpPr>
                <p:cNvPr id="1728" name="TextBox 14"/>
                <p:cNvSpPr/>
                <p:nvPr/>
              </p:nvSpPr>
              <p:spPr>
                <a:xfrm>
                  <a:off x="693720" y="2817720"/>
                  <a:ext cx="4143240" cy="25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解：设爸爸的体重为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kg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。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－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宋体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729" name="组合 24586"/>
                <p:cNvGrpSpPr/>
                <p:nvPr/>
              </p:nvGrpSpPr>
              <p:grpSpPr>
                <a:xfrm>
                  <a:off x="1619280" y="3087720"/>
                  <a:ext cx="504720" cy="815400"/>
                  <a:chOff x="1619280" y="3087720"/>
                  <a:chExt cx="504720" cy="815400"/>
                </a:xfrm>
              </p:grpSpPr>
              <p:sp>
                <p:nvSpPr>
                  <p:cNvPr id="1730" name="文本框 24587"/>
                  <p:cNvSpPr/>
                  <p:nvPr/>
                </p:nvSpPr>
                <p:spPr>
                  <a:xfrm>
                    <a:off x="1619280" y="34434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1" name="文本框 24588"/>
                  <p:cNvSpPr/>
                  <p:nvPr/>
                </p:nvSpPr>
                <p:spPr>
                  <a:xfrm>
                    <a:off x="1708200" y="3087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2" name="直接连接符 24589"/>
                  <p:cNvSpPr/>
                  <p:nvPr/>
                </p:nvSpPr>
                <p:spPr>
                  <a:xfrm>
                    <a:off x="1685880" y="350676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33" name="组合 24590"/>
                <p:cNvGrpSpPr/>
                <p:nvPr/>
              </p:nvGrpSpPr>
              <p:grpSpPr>
                <a:xfrm>
                  <a:off x="1636560" y="3676680"/>
                  <a:ext cx="504720" cy="815400"/>
                  <a:chOff x="1636560" y="3676680"/>
                  <a:chExt cx="504720" cy="815400"/>
                </a:xfrm>
              </p:grpSpPr>
              <p:sp>
                <p:nvSpPr>
                  <p:cNvPr id="1734" name="文本框 24591"/>
                  <p:cNvSpPr/>
                  <p:nvPr/>
                </p:nvSpPr>
                <p:spPr>
                  <a:xfrm>
                    <a:off x="1636560" y="40323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5" name="文本框 24592"/>
                  <p:cNvSpPr/>
                  <p:nvPr/>
                </p:nvSpPr>
                <p:spPr>
                  <a:xfrm>
                    <a:off x="1725480" y="36766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6" name="直接连接符 24593"/>
                  <p:cNvSpPr/>
                  <p:nvPr/>
                </p:nvSpPr>
                <p:spPr>
                  <a:xfrm>
                    <a:off x="1703160" y="40957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37" name="组合 24594"/>
                <p:cNvGrpSpPr/>
                <p:nvPr/>
              </p:nvGrpSpPr>
              <p:grpSpPr>
                <a:xfrm>
                  <a:off x="2878200" y="4167360"/>
                  <a:ext cx="586800" cy="815040"/>
                  <a:chOff x="2878200" y="4167360"/>
                  <a:chExt cx="586800" cy="815040"/>
                </a:xfrm>
              </p:grpSpPr>
              <p:sp>
                <p:nvSpPr>
                  <p:cNvPr id="1738" name="文本框 24595"/>
                  <p:cNvSpPr/>
                  <p:nvPr/>
                </p:nvSpPr>
                <p:spPr>
                  <a:xfrm>
                    <a:off x="2960280" y="45226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9" name="文本框 24596"/>
                  <p:cNvSpPr/>
                  <p:nvPr/>
                </p:nvSpPr>
                <p:spPr>
                  <a:xfrm>
                    <a:off x="2878200" y="4167360"/>
                    <a:ext cx="580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40" name="直接连接符 24597"/>
                  <p:cNvSpPr/>
                  <p:nvPr/>
                </p:nvSpPr>
                <p:spPr>
                  <a:xfrm>
                    <a:off x="2941200" y="45860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组合 24598"/>
              <p:cNvGrpSpPr/>
              <p:nvPr/>
            </p:nvGrpSpPr>
            <p:grpSpPr>
              <a:xfrm>
                <a:off x="4643280" y="1892160"/>
                <a:ext cx="4786560" cy="815400"/>
                <a:chOff x="4643280" y="1892160"/>
                <a:chExt cx="4786560" cy="815400"/>
              </a:xfrm>
            </p:grpSpPr>
            <p:sp>
              <p:nvSpPr>
                <p:cNvPr id="1742" name="TextBox 28"/>
                <p:cNvSpPr/>
                <p:nvPr/>
              </p:nvSpPr>
              <p:spPr>
                <a:xfrm>
                  <a:off x="4643280" y="2058840"/>
                  <a:ext cx="478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爸爸的体重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－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）＝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小明的体重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743" name="组合 24600"/>
                <p:cNvGrpSpPr/>
                <p:nvPr/>
              </p:nvGrpSpPr>
              <p:grpSpPr>
                <a:xfrm>
                  <a:off x="6877080" y="1892160"/>
                  <a:ext cx="504720" cy="815400"/>
                  <a:chOff x="6877080" y="1892160"/>
                  <a:chExt cx="504720" cy="815400"/>
                </a:xfrm>
              </p:grpSpPr>
              <p:sp>
                <p:nvSpPr>
                  <p:cNvPr id="1744" name="文本框 24601"/>
                  <p:cNvSpPr/>
                  <p:nvPr/>
                </p:nvSpPr>
                <p:spPr>
                  <a:xfrm>
                    <a:off x="6877080" y="22478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45" name="文本框 24602"/>
                  <p:cNvSpPr/>
                  <p:nvPr/>
                </p:nvSpPr>
                <p:spPr>
                  <a:xfrm>
                    <a:off x="6966000" y="18921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46" name="直接连接符 24603"/>
                  <p:cNvSpPr/>
                  <p:nvPr/>
                </p:nvSpPr>
                <p:spPr>
                  <a:xfrm>
                    <a:off x="6943680" y="23112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组合 24604"/>
              <p:cNvGrpSpPr/>
              <p:nvPr/>
            </p:nvGrpSpPr>
            <p:grpSpPr>
              <a:xfrm>
                <a:off x="4964040" y="2835360"/>
                <a:ext cx="4143600" cy="2288520"/>
                <a:chOff x="4964040" y="2835360"/>
                <a:chExt cx="4143600" cy="2288520"/>
              </a:xfrm>
            </p:grpSpPr>
            <p:sp>
              <p:nvSpPr>
                <p:cNvPr id="1748" name="TextBox 28"/>
                <p:cNvSpPr/>
                <p:nvPr/>
              </p:nvSpPr>
              <p:spPr>
                <a:xfrm>
                  <a:off x="4964040" y="2835360"/>
                  <a:ext cx="414360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解：设爸爸的体重为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kg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。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－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）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749" name="组合 24606"/>
                <p:cNvGrpSpPr/>
                <p:nvPr/>
              </p:nvGrpSpPr>
              <p:grpSpPr>
                <a:xfrm>
                  <a:off x="6319800" y="3576600"/>
                  <a:ext cx="504720" cy="815400"/>
                  <a:chOff x="6319800" y="3576600"/>
                  <a:chExt cx="504720" cy="815400"/>
                </a:xfrm>
              </p:grpSpPr>
              <p:sp>
                <p:nvSpPr>
                  <p:cNvPr id="1750" name="文本框 24607"/>
                  <p:cNvSpPr/>
                  <p:nvPr/>
                </p:nvSpPr>
                <p:spPr>
                  <a:xfrm>
                    <a:off x="6319800" y="39322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51" name="文本框 24608"/>
                  <p:cNvSpPr/>
                  <p:nvPr/>
                </p:nvSpPr>
                <p:spPr>
                  <a:xfrm>
                    <a:off x="6408720" y="35766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52" name="直接连接符 24609"/>
                  <p:cNvSpPr/>
                  <p:nvPr/>
                </p:nvSpPr>
                <p:spPr>
                  <a:xfrm>
                    <a:off x="6386400" y="39956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53" name="组合 24610"/>
                <p:cNvGrpSpPr/>
                <p:nvPr/>
              </p:nvGrpSpPr>
              <p:grpSpPr>
                <a:xfrm>
                  <a:off x="7729560" y="4024440"/>
                  <a:ext cx="587520" cy="815040"/>
                  <a:chOff x="7729560" y="4024440"/>
                  <a:chExt cx="587520" cy="815040"/>
                </a:xfrm>
              </p:grpSpPr>
              <p:sp>
                <p:nvSpPr>
                  <p:cNvPr id="1754" name="文本框 24611"/>
                  <p:cNvSpPr/>
                  <p:nvPr/>
                </p:nvSpPr>
                <p:spPr>
                  <a:xfrm>
                    <a:off x="7812000" y="4379760"/>
                    <a:ext cx="505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55" name="文本框 24612"/>
                  <p:cNvSpPr/>
                  <p:nvPr/>
                </p:nvSpPr>
                <p:spPr>
                  <a:xfrm>
                    <a:off x="7729560" y="4024440"/>
                    <a:ext cx="581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56" name="直接连接符 24613"/>
                  <p:cNvSpPr/>
                  <p:nvPr/>
                </p:nvSpPr>
                <p:spPr>
                  <a:xfrm>
                    <a:off x="7792920" y="4443120"/>
                    <a:ext cx="360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57" name="组合 24614"/>
            <p:cNvGrpSpPr/>
            <p:nvPr/>
          </p:nvGrpSpPr>
          <p:grpSpPr>
            <a:xfrm>
              <a:off x="6118200" y="3105000"/>
              <a:ext cx="504720" cy="815400"/>
              <a:chOff x="6118200" y="3105000"/>
              <a:chExt cx="504720" cy="815400"/>
            </a:xfrm>
          </p:grpSpPr>
          <p:sp>
            <p:nvSpPr>
              <p:cNvPr id="1758" name="文本框 24615"/>
              <p:cNvSpPr/>
              <p:nvPr/>
            </p:nvSpPr>
            <p:spPr>
              <a:xfrm>
                <a:off x="6118200" y="346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9" name="文本框 24616"/>
              <p:cNvSpPr/>
              <p:nvPr/>
            </p:nvSpPr>
            <p:spPr>
              <a:xfrm>
                <a:off x="6207120" y="3105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0" name="直接连接符 24617"/>
              <p:cNvSpPr/>
              <p:nvPr/>
            </p:nvSpPr>
            <p:spPr>
              <a:xfrm>
                <a:off x="6184800" y="3524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2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回顾与反思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3" name="TextBox 8"/>
          <p:cNvSpPr/>
          <p:nvPr/>
        </p:nvSpPr>
        <p:spPr>
          <a:xfrm>
            <a:off x="385920" y="210996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4" name="TextBox 10"/>
          <p:cNvSpPr/>
          <p:nvPr/>
        </p:nvSpPr>
        <p:spPr>
          <a:xfrm>
            <a:off x="1174680" y="210996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刚才同学们用两种不同的方法求出了爸爸的体重，那么对不对呢？都可以怎样检查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65" name="组合 25605"/>
          <p:cNvGrpSpPr/>
          <p:nvPr/>
        </p:nvGrpSpPr>
        <p:grpSpPr>
          <a:xfrm>
            <a:off x="260280" y="2928960"/>
            <a:ext cx="4357800" cy="1675800"/>
            <a:chOff x="260280" y="2928960"/>
            <a:chExt cx="4357800" cy="1675800"/>
          </a:xfrm>
        </p:grpSpPr>
        <p:grpSp>
          <p:nvGrpSpPr>
            <p:cNvPr id="1766" name="组合 25606"/>
            <p:cNvGrpSpPr/>
            <p:nvPr/>
          </p:nvGrpSpPr>
          <p:grpSpPr>
            <a:xfrm>
              <a:off x="3936960" y="3201840"/>
              <a:ext cx="504720" cy="815400"/>
              <a:chOff x="3936960" y="3201840"/>
              <a:chExt cx="504720" cy="815400"/>
            </a:xfrm>
          </p:grpSpPr>
          <p:sp>
            <p:nvSpPr>
              <p:cNvPr id="1767" name="文本框 25607"/>
              <p:cNvSpPr/>
              <p:nvPr/>
            </p:nvSpPr>
            <p:spPr>
              <a:xfrm>
                <a:off x="3936960" y="3557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8" name="文本框 25608"/>
              <p:cNvSpPr/>
              <p:nvPr/>
            </p:nvSpPr>
            <p:spPr>
              <a:xfrm>
                <a:off x="4025880" y="3201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9" name="直接连接符 25609"/>
              <p:cNvSpPr/>
              <p:nvPr/>
            </p:nvSpPr>
            <p:spPr>
              <a:xfrm>
                <a:off x="4003560" y="3620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70" name="组合 25610"/>
            <p:cNvGrpSpPr/>
            <p:nvPr/>
          </p:nvGrpSpPr>
          <p:grpSpPr>
            <a:xfrm>
              <a:off x="260280" y="2928960"/>
              <a:ext cx="4357800" cy="1675800"/>
              <a:chOff x="260280" y="2928960"/>
              <a:chExt cx="4357800" cy="1675800"/>
            </a:xfrm>
          </p:grpSpPr>
          <p:sp>
            <p:nvSpPr>
              <p:cNvPr id="1771" name="TextBox 12"/>
              <p:cNvSpPr/>
              <p:nvPr/>
            </p:nvSpPr>
            <p:spPr>
              <a:xfrm>
                <a:off x="260280" y="2928960"/>
                <a:ext cx="16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预设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2" name="TextBox 14"/>
              <p:cNvSpPr/>
              <p:nvPr/>
            </p:nvSpPr>
            <p:spPr>
              <a:xfrm>
                <a:off x="546120" y="3357720"/>
                <a:ext cx="400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看看小明的体重是不是爸爸的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3" name="TextBox 25"/>
              <p:cNvSpPr/>
              <p:nvPr/>
            </p:nvSpPr>
            <p:spPr>
              <a:xfrm>
                <a:off x="903240" y="3951360"/>
                <a:ext cx="371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5 ÷75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74" name="组合 25614"/>
              <p:cNvGrpSpPr/>
              <p:nvPr/>
            </p:nvGrpSpPr>
            <p:grpSpPr>
              <a:xfrm>
                <a:off x="2174760" y="3789360"/>
                <a:ext cx="504720" cy="815400"/>
                <a:chOff x="2174760" y="3789360"/>
                <a:chExt cx="504720" cy="815400"/>
              </a:xfrm>
            </p:grpSpPr>
            <p:sp>
              <p:nvSpPr>
                <p:cNvPr id="1775" name="文本框 25615"/>
                <p:cNvSpPr/>
                <p:nvPr/>
              </p:nvSpPr>
              <p:spPr>
                <a:xfrm>
                  <a:off x="2174760" y="4145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6" name="文本框 25616"/>
                <p:cNvSpPr/>
                <p:nvPr/>
              </p:nvSpPr>
              <p:spPr>
                <a:xfrm>
                  <a:off x="226368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7" name="直接连接符 25617"/>
                <p:cNvSpPr/>
                <p:nvPr/>
              </p:nvSpPr>
              <p:spPr>
                <a:xfrm>
                  <a:off x="2241360" y="4208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778" name="组合 25618"/>
          <p:cNvGrpSpPr/>
          <p:nvPr/>
        </p:nvGrpSpPr>
        <p:grpSpPr>
          <a:xfrm>
            <a:off x="4572000" y="2928960"/>
            <a:ext cx="4463640" cy="1653480"/>
            <a:chOff x="4572000" y="2928960"/>
            <a:chExt cx="4463640" cy="1653480"/>
          </a:xfrm>
        </p:grpSpPr>
        <p:sp>
          <p:nvSpPr>
            <p:cNvPr id="1779" name="TextBox 16"/>
            <p:cNvSpPr/>
            <p:nvPr/>
          </p:nvSpPr>
          <p:spPr>
            <a:xfrm>
              <a:off x="4572000" y="292896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0" name="TextBox 20"/>
            <p:cNvSpPr/>
            <p:nvPr/>
          </p:nvSpPr>
          <p:spPr>
            <a:xfrm>
              <a:off x="4857480" y="335772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看看小明的体重是不是比爸爸轻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1" name="TextBox 21"/>
            <p:cNvSpPr/>
            <p:nvPr/>
          </p:nvSpPr>
          <p:spPr>
            <a:xfrm>
              <a:off x="5143320" y="3929040"/>
              <a:ext cx="371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75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2" name="组合 25622"/>
            <p:cNvGrpSpPr/>
            <p:nvPr/>
          </p:nvGrpSpPr>
          <p:grpSpPr>
            <a:xfrm>
              <a:off x="8530920" y="3152880"/>
              <a:ext cx="504720" cy="815040"/>
              <a:chOff x="8530920" y="3152880"/>
              <a:chExt cx="504720" cy="815040"/>
            </a:xfrm>
          </p:grpSpPr>
          <p:sp>
            <p:nvSpPr>
              <p:cNvPr id="1783" name="文本框 25623"/>
              <p:cNvSpPr/>
              <p:nvPr/>
            </p:nvSpPr>
            <p:spPr>
              <a:xfrm>
                <a:off x="8530920" y="3508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4" name="文本框 25624"/>
              <p:cNvSpPr/>
              <p:nvPr/>
            </p:nvSpPr>
            <p:spPr>
              <a:xfrm>
                <a:off x="8619840" y="3152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5" name="直接连接符 25625"/>
              <p:cNvSpPr/>
              <p:nvPr/>
            </p:nvSpPr>
            <p:spPr>
              <a:xfrm>
                <a:off x="8597520" y="35715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86" name="组合 25626"/>
            <p:cNvGrpSpPr/>
            <p:nvPr/>
          </p:nvGrpSpPr>
          <p:grpSpPr>
            <a:xfrm>
              <a:off x="7500960" y="3767040"/>
              <a:ext cx="504720" cy="815400"/>
              <a:chOff x="7500960" y="3767040"/>
              <a:chExt cx="504720" cy="815400"/>
            </a:xfrm>
          </p:grpSpPr>
          <p:sp>
            <p:nvSpPr>
              <p:cNvPr id="1787" name="文本框 25627"/>
              <p:cNvSpPr/>
              <p:nvPr/>
            </p:nvSpPr>
            <p:spPr>
              <a:xfrm>
                <a:off x="7500960" y="4122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8" name="文本框 25628"/>
              <p:cNvSpPr/>
              <p:nvPr/>
            </p:nvSpPr>
            <p:spPr>
              <a:xfrm>
                <a:off x="7589880" y="3767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9" name="直接连接符 25629"/>
              <p:cNvSpPr/>
              <p:nvPr/>
            </p:nvSpPr>
            <p:spPr>
              <a:xfrm>
                <a:off x="7567560" y="4186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90" name="组合 25630"/>
          <p:cNvGrpSpPr/>
          <p:nvPr/>
        </p:nvGrpSpPr>
        <p:grpSpPr>
          <a:xfrm>
            <a:off x="260280" y="4437000"/>
            <a:ext cx="4285800" cy="1645560"/>
            <a:chOff x="260280" y="4437000"/>
            <a:chExt cx="4285800" cy="1645560"/>
          </a:xfrm>
        </p:grpSpPr>
        <p:sp>
          <p:nvSpPr>
            <p:cNvPr id="1791" name="TextBox 31"/>
            <p:cNvSpPr/>
            <p:nvPr/>
          </p:nvSpPr>
          <p:spPr>
            <a:xfrm>
              <a:off x="545760" y="4872240"/>
              <a:ext cx="40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看看小明的体重是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千克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2" name="TextBox 32"/>
            <p:cNvSpPr/>
            <p:nvPr/>
          </p:nvSpPr>
          <p:spPr>
            <a:xfrm>
              <a:off x="260280" y="4437000"/>
              <a:ext cx="15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3" name="TextBox 33"/>
            <p:cNvSpPr/>
            <p:nvPr/>
          </p:nvSpPr>
          <p:spPr>
            <a:xfrm>
              <a:off x="902880" y="5437440"/>
              <a:ext cx="28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 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4" name="组合 25634"/>
            <p:cNvGrpSpPr/>
            <p:nvPr/>
          </p:nvGrpSpPr>
          <p:grpSpPr>
            <a:xfrm>
              <a:off x="2192040" y="5267520"/>
              <a:ext cx="504360" cy="815040"/>
              <a:chOff x="2192040" y="5267520"/>
              <a:chExt cx="504360" cy="815040"/>
            </a:xfrm>
          </p:grpSpPr>
          <p:sp>
            <p:nvSpPr>
              <p:cNvPr id="1795" name="文本框 25635"/>
              <p:cNvSpPr/>
              <p:nvPr/>
            </p:nvSpPr>
            <p:spPr>
              <a:xfrm>
                <a:off x="2192040" y="56228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6" name="文本框 25636"/>
              <p:cNvSpPr/>
              <p:nvPr/>
            </p:nvSpPr>
            <p:spPr>
              <a:xfrm>
                <a:off x="2280600" y="52675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7" name="直接连接符 25637"/>
              <p:cNvSpPr/>
              <p:nvPr/>
            </p:nvSpPr>
            <p:spPr>
              <a:xfrm>
                <a:off x="2258280" y="56862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99" name="组合 26626"/>
          <p:cNvGrpSpPr/>
          <p:nvPr/>
        </p:nvGrpSpPr>
        <p:grpSpPr>
          <a:xfrm>
            <a:off x="1428840" y="2714760"/>
            <a:ext cx="5051160" cy="2127240"/>
            <a:chOff x="1428840" y="2714760"/>
            <a:chExt cx="5051160" cy="2127240"/>
          </a:xfrm>
        </p:grpSpPr>
        <p:pic>
          <p:nvPicPr>
            <p:cNvPr id="1800" name="左大括号 54" descr=""/>
            <p:cNvPicPr/>
            <p:nvPr/>
          </p:nvPicPr>
          <p:blipFill>
            <a:blip r:embed="rId1"/>
            <a:stretch/>
          </p:blipFill>
          <p:spPr>
            <a:xfrm>
              <a:off x="4995720" y="3371760"/>
              <a:ext cx="143856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1" name="组合 26628"/>
            <p:cNvGrpSpPr/>
            <p:nvPr/>
          </p:nvGrpSpPr>
          <p:grpSpPr>
            <a:xfrm>
              <a:off x="1428840" y="2714760"/>
              <a:ext cx="5051160" cy="2127240"/>
              <a:chOff x="1428840" y="2714760"/>
              <a:chExt cx="5051160" cy="2127240"/>
            </a:xfrm>
          </p:grpSpPr>
          <p:pic>
            <p:nvPicPr>
              <p:cNvPr id="1802" name="Object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5800680" y="3097080"/>
                <a:ext cx="177840" cy="457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3" name="组合 62"/>
              <p:cNvGrpSpPr/>
              <p:nvPr/>
            </p:nvGrpSpPr>
            <p:grpSpPr>
              <a:xfrm>
                <a:off x="1428840" y="2714760"/>
                <a:ext cx="5051160" cy="2127240"/>
                <a:chOff x="1428840" y="2714760"/>
                <a:chExt cx="5051160" cy="2127240"/>
              </a:xfrm>
            </p:grpSpPr>
            <p:sp>
              <p:nvSpPr>
                <p:cNvPr id="1804" name="左大括号 52"/>
                <p:cNvSpPr/>
                <p:nvPr/>
              </p:nvSpPr>
              <p:spPr>
                <a:xfrm rot="5400000">
                  <a:off x="3850560" y="633960"/>
                  <a:ext cx="158760" cy="5001120"/>
                </a:xfrm>
                <a:custGeom>
                  <a:avLst/>
                  <a:gdLst>
                    <a:gd name="textAreaLeft" fmla="*/ 101520 w 158760"/>
                    <a:gd name="textAreaRight" fmla="*/ 159120 w 158760"/>
                    <a:gd name="textAreaTop" fmla="*/ 16560 h 5001120"/>
                    <a:gd name="textAreaBottom" fmla="*/ 4984560 h 5001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116"/>
                        <a:pt x="10800" y="231"/>
                      </a:cubicBezTo>
                      <a:lnTo>
                        <a:pt x="10800" y="10569"/>
                      </a:lnTo>
                      <a:cubicBezTo>
                        <a:pt x="10800" y="10685"/>
                        <a:pt x="5400" y="10800"/>
                        <a:pt x="0" y="10800"/>
                      </a:cubicBezTo>
                      <a:cubicBezTo>
                        <a:pt x="5400" y="10800"/>
                        <a:pt x="10800" y="10916"/>
                        <a:pt x="10800" y="11031"/>
                      </a:cubicBezTo>
                      <a:lnTo>
                        <a:pt x="10800" y="21369"/>
                      </a:lnTo>
                      <a:cubicBezTo>
                        <a:pt x="10800" y="21485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05" name="组合 61"/>
                <p:cNvGrpSpPr/>
                <p:nvPr/>
              </p:nvGrpSpPr>
              <p:grpSpPr>
                <a:xfrm>
                  <a:off x="1428840" y="2714760"/>
                  <a:ext cx="5051160" cy="2127240"/>
                  <a:chOff x="1428840" y="2714760"/>
                  <a:chExt cx="5051160" cy="2127240"/>
                </a:xfrm>
              </p:grpSpPr>
              <p:grpSp>
                <p:nvGrpSpPr>
                  <p:cNvPr id="1806" name="组合 51"/>
                  <p:cNvGrpSpPr/>
                  <p:nvPr/>
                </p:nvGrpSpPr>
                <p:grpSpPr>
                  <a:xfrm>
                    <a:off x="1428840" y="3514320"/>
                    <a:ext cx="5011920" cy="137160"/>
                    <a:chOff x="1428840" y="3514320"/>
                    <a:chExt cx="5011920" cy="137160"/>
                  </a:xfrm>
                </p:grpSpPr>
                <p:sp>
                  <p:nvSpPr>
                    <p:cNvPr id="1807" name="直接连接符 35"/>
                    <p:cNvSpPr/>
                    <p:nvPr/>
                  </p:nvSpPr>
                  <p:spPr>
                    <a:xfrm>
                      <a:off x="1429560" y="3650040"/>
                      <a:ext cx="50112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08" name="直接连接符 37"/>
                    <p:cNvSpPr/>
                    <p:nvPr/>
                  </p:nvSpPr>
                  <p:spPr>
                    <a:xfrm flipH="1">
                      <a:off x="142884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09" name="直接连接符 38"/>
                    <p:cNvSpPr/>
                    <p:nvPr/>
                  </p:nvSpPr>
                  <p:spPr>
                    <a:xfrm flipH="1">
                      <a:off x="4291560" y="351432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0" name="直接连接符 39"/>
                    <p:cNvSpPr/>
                    <p:nvPr/>
                  </p:nvSpPr>
                  <p:spPr>
                    <a:xfrm flipH="1">
                      <a:off x="214452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1" name="直接连接符 41"/>
                    <p:cNvSpPr/>
                    <p:nvPr/>
                  </p:nvSpPr>
                  <p:spPr>
                    <a:xfrm flipH="1">
                      <a:off x="286056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2" name="直接连接符 42"/>
                    <p:cNvSpPr/>
                    <p:nvPr/>
                  </p:nvSpPr>
                  <p:spPr>
                    <a:xfrm flipH="1">
                      <a:off x="5007600" y="351432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3" name="直接连接符 43"/>
                    <p:cNvSpPr/>
                    <p:nvPr/>
                  </p:nvSpPr>
                  <p:spPr>
                    <a:xfrm flipH="1">
                      <a:off x="357660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4" name="直接连接符 46"/>
                    <p:cNvSpPr/>
                    <p:nvPr/>
                  </p:nvSpPr>
                  <p:spPr>
                    <a:xfrm flipH="1">
                      <a:off x="6439320" y="351432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5" name="直接连接符 48"/>
                    <p:cNvSpPr/>
                    <p:nvPr/>
                  </p:nvSpPr>
                  <p:spPr>
                    <a:xfrm flipH="1">
                      <a:off x="572436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6" name="TextBox 53"/>
                  <p:cNvSpPr/>
                  <p:nvPr/>
                </p:nvSpPr>
                <p:spPr>
                  <a:xfrm>
                    <a:off x="3506040" y="2714760"/>
                    <a:ext cx="1001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“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7" name="TextBox 56"/>
                  <p:cNvSpPr/>
                  <p:nvPr/>
                </p:nvSpPr>
                <p:spPr>
                  <a:xfrm>
                    <a:off x="5295600" y="3144960"/>
                    <a:ext cx="1073520" cy="53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还剩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8" name="左大括号 57"/>
                  <p:cNvSpPr/>
                  <p:nvPr/>
                </p:nvSpPr>
                <p:spPr>
                  <a:xfrm rot="16200000">
                    <a:off x="3116520" y="2005920"/>
                    <a:ext cx="203400" cy="3579120"/>
                  </a:xfrm>
                  <a:custGeom>
                    <a:avLst/>
                    <a:gdLst>
                      <a:gd name="textAreaLeft" fmla="*/ 129960 w 203400"/>
                      <a:gd name="textAreaRight" fmla="*/ 203760 w 203400"/>
                      <a:gd name="textAreaTop" fmla="*/ 22320 h 3579120"/>
                      <a:gd name="textAreaBottom" fmla="*/ 3556800 h 3579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219"/>
                          <a:pt x="10800" y="437"/>
                        </a:cubicBezTo>
                        <a:lnTo>
                          <a:pt x="10800" y="10363"/>
                        </a:lnTo>
                        <a:cubicBezTo>
                          <a:pt x="10800" y="10582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019"/>
                          <a:pt x="10800" y="11237"/>
                        </a:cubicBezTo>
                        <a:lnTo>
                          <a:pt x="10800" y="21163"/>
                        </a:lnTo>
                        <a:cubicBezTo>
                          <a:pt x="10800" y="21382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9" name="TextBox 58"/>
                  <p:cNvSpPr/>
                  <p:nvPr/>
                </p:nvSpPr>
                <p:spPr>
                  <a:xfrm>
                    <a:off x="2718720" y="3870360"/>
                    <a:ext cx="1073520" cy="9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读了</a:t>
                    </a:r>
                    <a:r>
                      <a: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35</a:t>
                    </a: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页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pic>
                <p:nvPicPr>
                  <p:cNvPr id="1820" name="左大括号 5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0440" y="4071600"/>
                    <a:ext cx="5029560" cy="2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1821" name="TextBox 60"/>
            <p:cNvSpPr/>
            <p:nvPr/>
          </p:nvSpPr>
          <p:spPr>
            <a:xfrm>
              <a:off x="3645000" y="4286160"/>
              <a:ext cx="1071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？页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2" name="组合 26649"/>
          <p:cNvGrpSpPr/>
          <p:nvPr/>
        </p:nvGrpSpPr>
        <p:grpSpPr>
          <a:xfrm>
            <a:off x="755640" y="1593720"/>
            <a:ext cx="7597800" cy="1978200"/>
            <a:chOff x="755640" y="1593720"/>
            <a:chExt cx="7597800" cy="1978200"/>
          </a:xfrm>
        </p:grpSpPr>
        <p:sp>
          <p:nvSpPr>
            <p:cNvPr id="1823" name="TextBox 16"/>
            <p:cNvSpPr/>
            <p:nvPr/>
          </p:nvSpPr>
          <p:spPr>
            <a:xfrm>
              <a:off x="755640" y="1593720"/>
              <a:ext cx="714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这本课外读物一共有多少页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824" name="图片 26651" descr="37"/>
            <p:cNvPicPr/>
            <p:nvPr/>
          </p:nvPicPr>
          <p:blipFill>
            <a:blip r:embed="rId4"/>
            <a:stretch/>
          </p:blipFill>
          <p:spPr>
            <a:xfrm>
              <a:off x="6691320" y="1773360"/>
              <a:ext cx="16621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AutoShape 27"/>
            <p:cNvSpPr/>
            <p:nvPr/>
          </p:nvSpPr>
          <p:spPr>
            <a:xfrm>
              <a:off x="1620720" y="1628640"/>
              <a:ext cx="5688000" cy="649440"/>
            </a:xfrm>
            <a:prstGeom prst="wedgeRoundRectCallout">
              <a:avLst>
                <a:gd name="adj1" fmla="val 51537"/>
                <a:gd name="adj2" fmla="val 33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这本课外读物我读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页，还剩下      没读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6" name="组合 26653"/>
          <p:cNvGrpSpPr/>
          <p:nvPr/>
        </p:nvGrpSpPr>
        <p:grpSpPr>
          <a:xfrm>
            <a:off x="5819760" y="1521000"/>
            <a:ext cx="511200" cy="815040"/>
            <a:chOff x="5819760" y="1521000"/>
            <a:chExt cx="511200" cy="815040"/>
          </a:xfrm>
        </p:grpSpPr>
        <p:sp>
          <p:nvSpPr>
            <p:cNvPr id="1827" name="文本框 26654"/>
            <p:cNvSpPr/>
            <p:nvPr/>
          </p:nvSpPr>
          <p:spPr>
            <a:xfrm>
              <a:off x="5826240" y="1876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8" name="文本框 26655"/>
            <p:cNvSpPr/>
            <p:nvPr/>
          </p:nvSpPr>
          <p:spPr>
            <a:xfrm>
              <a:off x="5819760" y="152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9" name="直接连接符 26656"/>
            <p:cNvSpPr/>
            <p:nvPr/>
          </p:nvSpPr>
          <p:spPr>
            <a:xfrm>
              <a:off x="5835600" y="1940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30" name="组合 26657"/>
          <p:cNvGrpSpPr/>
          <p:nvPr/>
        </p:nvGrpSpPr>
        <p:grpSpPr>
          <a:xfrm>
            <a:off x="468360" y="4292640"/>
            <a:ext cx="3929040" cy="2437560"/>
            <a:chOff x="468360" y="4292640"/>
            <a:chExt cx="3929040" cy="2437560"/>
          </a:xfrm>
        </p:grpSpPr>
        <p:sp>
          <p:nvSpPr>
            <p:cNvPr id="1831" name="TextBox 21"/>
            <p:cNvSpPr/>
            <p:nvPr/>
          </p:nvSpPr>
          <p:spPr>
            <a:xfrm>
              <a:off x="468360" y="4292640"/>
              <a:ext cx="17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32" name="组合 26659"/>
            <p:cNvGrpSpPr/>
            <p:nvPr/>
          </p:nvGrpSpPr>
          <p:grpSpPr>
            <a:xfrm>
              <a:off x="468360" y="4716360"/>
              <a:ext cx="3929040" cy="2013840"/>
              <a:chOff x="468360" y="4716360"/>
              <a:chExt cx="3929040" cy="2013840"/>
            </a:xfrm>
          </p:grpSpPr>
          <p:sp>
            <p:nvSpPr>
              <p:cNvPr id="1833" name="TextBox 22"/>
              <p:cNvSpPr/>
              <p:nvPr/>
            </p:nvSpPr>
            <p:spPr>
              <a:xfrm>
                <a:off x="468360" y="4716360"/>
                <a:ext cx="3929040" cy="20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解：设这本课外读物一共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宋体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页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－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       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       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34" name="组合 26661"/>
              <p:cNvGrpSpPr/>
              <p:nvPr/>
            </p:nvGrpSpPr>
            <p:grpSpPr>
              <a:xfrm>
                <a:off x="1531800" y="4991040"/>
                <a:ext cx="511200" cy="815040"/>
                <a:chOff x="1531800" y="4991040"/>
                <a:chExt cx="511200" cy="815040"/>
              </a:xfrm>
            </p:grpSpPr>
            <p:sp>
              <p:nvSpPr>
                <p:cNvPr id="1835" name="文本框 26662"/>
                <p:cNvSpPr/>
                <p:nvPr/>
              </p:nvSpPr>
              <p:spPr>
                <a:xfrm>
                  <a:off x="1538280" y="53463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6" name="文本框 26663"/>
                <p:cNvSpPr/>
                <p:nvPr/>
              </p:nvSpPr>
              <p:spPr>
                <a:xfrm>
                  <a:off x="1531800" y="49910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7" name="直接连接符 26664"/>
                <p:cNvSpPr/>
                <p:nvPr/>
              </p:nvSpPr>
              <p:spPr>
                <a:xfrm>
                  <a:off x="1547640" y="54100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38" name="组合 26665"/>
              <p:cNvGrpSpPr/>
              <p:nvPr/>
            </p:nvGrpSpPr>
            <p:grpSpPr>
              <a:xfrm>
                <a:off x="1479600" y="5607000"/>
                <a:ext cx="511200" cy="815040"/>
                <a:chOff x="1479600" y="5607000"/>
                <a:chExt cx="511200" cy="815040"/>
              </a:xfrm>
            </p:grpSpPr>
            <p:sp>
              <p:nvSpPr>
                <p:cNvPr id="1839" name="文本框 26666"/>
                <p:cNvSpPr/>
                <p:nvPr/>
              </p:nvSpPr>
              <p:spPr>
                <a:xfrm>
                  <a:off x="1486080" y="5962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0" name="文本框 26667"/>
                <p:cNvSpPr/>
                <p:nvPr/>
              </p:nvSpPr>
              <p:spPr>
                <a:xfrm>
                  <a:off x="1479600" y="5607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1" name="直接连接符 26668"/>
                <p:cNvSpPr/>
                <p:nvPr/>
              </p:nvSpPr>
              <p:spPr>
                <a:xfrm>
                  <a:off x="1495440" y="60260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842" name="组合 26669"/>
          <p:cNvGrpSpPr/>
          <p:nvPr/>
        </p:nvGrpSpPr>
        <p:grpSpPr>
          <a:xfrm>
            <a:off x="4500720" y="4257720"/>
            <a:ext cx="3958920" cy="2270880"/>
            <a:chOff x="4500720" y="4257720"/>
            <a:chExt cx="3958920" cy="2270880"/>
          </a:xfrm>
        </p:grpSpPr>
        <p:sp>
          <p:nvSpPr>
            <p:cNvPr id="1843" name="TextBox 30"/>
            <p:cNvSpPr/>
            <p:nvPr/>
          </p:nvSpPr>
          <p:spPr>
            <a:xfrm>
              <a:off x="4500720" y="4257720"/>
              <a:ext cx="175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4" name="TextBox 31"/>
            <p:cNvSpPr/>
            <p:nvPr/>
          </p:nvSpPr>
          <p:spPr>
            <a:xfrm>
              <a:off x="4500720" y="4697280"/>
              <a:ext cx="395892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这本课外读物一共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页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45" name="组合 26672"/>
            <p:cNvGrpSpPr/>
            <p:nvPr/>
          </p:nvGrpSpPr>
          <p:grpSpPr>
            <a:xfrm>
              <a:off x="5862600" y="4963680"/>
              <a:ext cx="511200" cy="815040"/>
              <a:chOff x="5862600" y="4963680"/>
              <a:chExt cx="511200" cy="815040"/>
            </a:xfrm>
          </p:grpSpPr>
          <p:sp>
            <p:nvSpPr>
              <p:cNvPr id="1846" name="文本框 26673"/>
              <p:cNvSpPr/>
              <p:nvPr/>
            </p:nvSpPr>
            <p:spPr>
              <a:xfrm>
                <a:off x="5869080" y="5319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7" name="文本框 26674"/>
              <p:cNvSpPr/>
              <p:nvPr/>
            </p:nvSpPr>
            <p:spPr>
              <a:xfrm>
                <a:off x="5862600" y="4963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8" name="直接连接符 26675"/>
              <p:cNvSpPr/>
              <p:nvPr/>
            </p:nvSpPr>
            <p:spPr>
              <a:xfrm>
                <a:off x="5878440" y="5382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49" name="组合 26676"/>
            <p:cNvGrpSpPr/>
            <p:nvPr/>
          </p:nvGrpSpPr>
          <p:grpSpPr>
            <a:xfrm>
              <a:off x="6022800" y="5462280"/>
              <a:ext cx="511200" cy="815040"/>
              <a:chOff x="6022800" y="5462280"/>
              <a:chExt cx="511200" cy="815040"/>
            </a:xfrm>
          </p:grpSpPr>
          <p:sp>
            <p:nvSpPr>
              <p:cNvPr id="1850" name="文本框 26677"/>
              <p:cNvSpPr/>
              <p:nvPr/>
            </p:nvSpPr>
            <p:spPr>
              <a:xfrm>
                <a:off x="6029280" y="5817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1" name="文本框 26678"/>
              <p:cNvSpPr/>
              <p:nvPr/>
            </p:nvSpPr>
            <p:spPr>
              <a:xfrm>
                <a:off x="6022800" y="5462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2" name="直接连接符 26679"/>
              <p:cNvSpPr/>
              <p:nvPr/>
            </p:nvSpPr>
            <p:spPr>
              <a:xfrm>
                <a:off x="6038640" y="5881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38Z</dcterms:modified>
  <cp:revision>3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